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9.wmf" ContentType="image/x-wmf"/>
  <Override PartName="/ppt/media/image1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16.png" ContentType="image/png"/>
  <Override PartName="/ppt/media/image12.wmf" ContentType="image/x-wmf"/>
  <Override PartName="/ppt/media/image8.jpeg" ContentType="image/jpeg"/>
  <Override PartName="/ppt/media/image13.wmf" ContentType="image/x-wmf"/>
  <Override PartName="/ppt/media/image32.png" ContentType="image/png"/>
  <Override PartName="/ppt/media/image4.png" ContentType="image/png"/>
  <Override PartName="/ppt/media/image34.png" ContentType="image/png"/>
  <Override PartName="/ppt/media/image33.wmf" ContentType="image/x-wmf"/>
  <Override PartName="/ppt/media/image35.png" ContentType="image/png"/>
  <Override PartName="/ppt/media/image38.wmf" ContentType="image/x-wmf"/>
  <Override PartName="/ppt/media/image3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27.png" ContentType="image/png"/>
  <Override PartName="/ppt/media/image30.wmf" ContentType="image/x-wmf"/>
  <Override PartName="/ppt/media/image5.wmf" ContentType="image/x-wmf"/>
  <Override PartName="/ppt/media/image11.wmf" ContentType="image/x-wmf"/>
  <Override PartName="/ppt/media/image9.jpeg" ContentType="image/jpeg"/>
  <Override PartName="/ppt/media/image10.wmf" ContentType="image/x-wmf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2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24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AEF92-4C0E-466F-ACC1-E5DF90B5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89080" y="708120"/>
            <a:ext cx="4713120" cy="3535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5960" y="4476600"/>
            <a:ext cx="5673960" cy="424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ONE MAP WITH 2008 DATA TO BE PRESENTED 2004, 2006 AND 2008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9080" y="708120"/>
            <a:ext cx="4713120" cy="3535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To remove master slide elements from the slide set, select View – Master – Slide Master. Delete the undesired elements. Then select View –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472752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685800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838080" y="5021280"/>
            <a:ext cx="1600200" cy="1455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2851200" y="4960800"/>
            <a:ext cx="1660320" cy="1820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&amp;E des programmes d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B et VI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381120"/>
            <a:ext cx="739152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57200" y="304920"/>
          <a:ext cx="8305920" cy="8204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cc0000"/>
                          </a:solidFill>
                          <a:latin typeface="TradeGothic CondEighteen"/>
                          <a:ea typeface="Times New Roman"/>
                        </a:rPr>
                        <a:t>FIGURE 2:</a:t>
                      </a: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TradeGothic CondEighteen"/>
                          <a:ea typeface="Times New Roman"/>
                        </a:rPr>
                        <a:t>INCIDENCE ESTIMEE DE LA TUBERCULOSE PAR PAYS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380880"/>
          <a:ext cx="3805200" cy="51588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radeGothic CondEighteen"/>
                          <a:ea typeface="Times New Roman"/>
                        </a:rPr>
                        <a:t>FIGURE 3  CAS DE TUBERCULOSE PAR REGION,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4191120" cy="53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64832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800600" y="304920"/>
          <a:ext cx="3805200" cy="515880"/>
        </p:xfrm>
        <a:graphic>
          <a:graphicData uri="http://schemas.openxmlformats.org/drawingml/2006/table">
            <a:tbl>
              <a:tblPr/>
              <a:tblGrid>
                <a:gridCol w="3805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radeGothic CondEighteen"/>
                          <a:ea typeface="Times New Roman"/>
                        </a:rPr>
                        <a:t>FIGURE 4  TAUX D’INCIDENCE ESTIME DE LA TUBERCULOSE, 1990-2008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228600"/>
            <a:ext cx="769644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stimation globale de TB:  2008</a:t>
            </a:r>
            <a:r>
              <a:rPr b="1" lang="en-GB" sz="4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1422360"/>
            <a:ext cx="20160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Nombre de cas estim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295280"/>
            <a:ext cx="22860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ombre de cas de décès estim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70720" y="2646360"/>
            <a:ext cx="2530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1.77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(27 / 100,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2646360"/>
            <a:ext cx="26337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9.27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(139 / 100,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692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~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1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38560" y="36799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51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646360"/>
            <a:ext cx="3168720" cy="76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Toutes formes de TB </a:t>
            </a:r>
            <a:br>
              <a:rPr sz="2000"/>
            </a:br>
            <a:r>
              <a:rPr b="1" lang="fr-FR" sz="1200" spc="-1" strike="noStrike">
                <a:solidFill>
                  <a:srgbClr val="000000"/>
                </a:solidFill>
                <a:latin typeface="Tahoma"/>
                <a:ea typeface="Tahoma"/>
              </a:rPr>
              <a:t>Plus grand # de cas en Asie; Plus grand taux par habitant en Afr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83080"/>
            <a:ext cx="3322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TB Multi-drogues résistantes (MDR-T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446720"/>
            <a:ext cx="31687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2000" spc="-1" strike="noStrike">
                <a:solidFill>
                  <a:srgbClr val="000000"/>
                </a:solidFill>
                <a:latin typeface="Tahoma"/>
                <a:ea typeface="Tahoma"/>
              </a:rPr>
              <a:t>TB ultra-r</a:t>
            </a:r>
            <a:r>
              <a:rPr b="1" lang="fr-SN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SN" sz="2000" spc="-1" strike="noStrike">
                <a:solidFill>
                  <a:srgbClr val="000000"/>
                </a:solidFill>
                <a:latin typeface="Tahoma"/>
                <a:ea typeface="Tahoma"/>
              </a:rPr>
              <a:t>sistantes (XDR-T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4551480"/>
            <a:ext cx="19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~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88240" y="4538520"/>
            <a:ext cx="18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~3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5310360"/>
            <a:ext cx="31687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HIV-Associ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Tahoma"/>
              </a:rPr>
              <a:t> à la 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00672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3341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1.4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533412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52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3760" y="228600"/>
            <a:ext cx="776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elation TB et VI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5890400">
            <a:off x="4298040" y="2709000"/>
            <a:ext cx="3587760" cy="1827000"/>
          </a:xfrm>
          <a:custGeom>
            <a:avLst/>
            <a:gdLst>
              <a:gd name="textAreaLeft" fmla="*/ 627840 w 3587760"/>
              <a:gd name="textAreaRight" fmla="*/ 2601360 w 3587760"/>
              <a:gd name="textAreaTop" fmla="*/ 244800 h 1827000"/>
              <a:gd name="textAreaBottom" fmla="*/ 1582200 h 18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133720"/>
            <a:ext cx="1752480" cy="358128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743200"/>
            <a:ext cx="167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B augmente la morbidité et la mortalité parmi les VIH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743200"/>
            <a:ext cx="152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H augmente le risque de TB act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ssociation VIH et TB suspectée très vite après apparition de l’épidémie du VI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Observations cliniques : TB chez les malades du SIDA (Haïtiens, USA ; Afrique, C.I., Rw, RC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ugmentation des cas TB déclarés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SA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urundi, Tanzanie, Abidj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23760" y="228600"/>
            <a:ext cx="776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elation TB et VI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3760" y="152280"/>
            <a:ext cx="776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elation TB et VIH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79280" y="6095880"/>
            <a:ext cx="28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urce: Williams B. 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 3rd Global TB/HIV Working Group Meeting, Montreux, 4–6 June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3760" y="151920"/>
            <a:ext cx="7763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b3585"/>
                </a:solidFill>
                <a:latin typeface="Arial"/>
              </a:rPr>
              <a:t>Relation TB et VIH </a:t>
            </a:r>
            <a:r>
              <a:rPr b="1" lang="fr-FR" sz="2000" spc="-1" strike="noStrike">
                <a:solidFill>
                  <a:srgbClr val="2b3585"/>
                </a:solidFill>
                <a:latin typeface="Arial"/>
              </a:rPr>
              <a:t>(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9808" t="15777" r="22623" b="18524"/>
          <a:stretch/>
        </p:blipFill>
        <p:spPr>
          <a:xfrm>
            <a:off x="152280" y="914400"/>
            <a:ext cx="883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3760" y="151920"/>
            <a:ext cx="7763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elation TB et VIH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sentation clinique atypique, surtout avec un CD4 plus bas (diagnostic difficile)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Risque plus élevé d’infections extra-pulmonaires (diagnostic et traitement plus difficil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ugmentation de la résistance aux antituberculeux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Décè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3760" y="274680"/>
            <a:ext cx="7763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lation TB et VIH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560" y="1533600"/>
            <a:ext cx="8987760" cy="4930920"/>
            <a:chOff x="79560" y="1533600"/>
            <a:chExt cx="8987760" cy="4930920"/>
          </a:xfrm>
        </p:grpSpPr>
        <p:graphicFrame>
          <p:nvGraphicFramePr>
            <p:cNvPr id="148" name=""/>
            <p:cNvGraphicFramePr/>
            <p:nvPr/>
          </p:nvGraphicFramePr>
          <p:xfrm>
            <a:off x="597960" y="1756440"/>
            <a:ext cx="4036320" cy="466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960" y="1756440"/>
                      <a:ext cx="4036320" cy="466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866480" y="2516040"/>
            <a:ext cx="4200840" cy="30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6480" y="2516040"/>
                      <a:ext cx="4200840" cy="30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332640" y="1533600"/>
              <a:ext cx="333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épublique Démocratiqu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u Con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31560" y="153360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ôte d’Ivoi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34280" y="4408560"/>
              <a:ext cx="1842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TB: 44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626000">
              <a:off x="6368040" y="4138560"/>
              <a:ext cx="1915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Arial"/>
                </a:rPr>
                <a:t>TB: 32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400" y="5828040"/>
              <a:ext cx="7885800" cy="63648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ources des données: Nelson AM et al. HIV-1 seropositivity and mortality at University Hospital, Kinshasa, Zaire, 1987. </a:t>
              </a:r>
              <a:r>
                <a:rPr b="0" i="1" lang="en-GB" sz="1200" spc="-1" strike="noStrike">
                  <a:solidFill>
                    <a:srgbClr val="ffffff"/>
                  </a:solidFill>
                  <a:latin typeface="Arial"/>
                </a:rPr>
                <a:t>AIDS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, 1991, 5:583–586 et Lucas SB et al. The mortality and pathology of HIV infection in a west African city. </a:t>
              </a:r>
              <a:r>
                <a:rPr b="0" i="1" lang="en-GB" sz="1200" spc="-1" strike="noStrike">
                  <a:solidFill>
                    <a:srgbClr val="ffffff"/>
                  </a:solidFill>
                  <a:latin typeface="Arial"/>
                </a:rPr>
                <a:t>AIDS</a:t>
              </a: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, 1993, 7:1569–1579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560" y="235296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neumonie: 40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8920" y="2650320"/>
              <a:ext cx="20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ryptosporidiose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1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98880" y="38710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utres: 5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1960" y="533304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neumonie: 8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01160" y="251604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utres: 39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81680" y="4663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r>
                <a:rPr b="0" lang="da-DK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cémies: 11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1080" y="3693600"/>
              <a:ext cx="17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oxoplasmose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2280" y="798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tuberculose est la principale cause de décè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hez les personnes vivant avec le VIH/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i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ifficulté de diagnostic des formes non TPM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gmentation de l’activité du laborato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63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bjectifs de la se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3760" y="1371240"/>
            <a:ext cx="7763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mprendre l’ampleur du problème de la tuberculose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Connaître les particularités de la co-infection TB et VIH 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écrire les objectifs et les stratégies dominantes du Plan Mondial Halte à la Tubercul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perçu sur la révision des indicate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xemples d’indicateurs essentiels de S/E d’un programme intégré TB/VIH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dentifier les sources de données potentielles pour l’élaboration des indicateurs de S/E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i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gmentation des patients à trai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gmentation des coûts (besoins de soins pour 2 patholog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gmentation des décè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ganisation de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se en charge VIH des patients TB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Dépistage VIH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otrimoxazole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vention VIH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Soins et soutien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ganisation de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se en charge TB des patients VI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Dépistage TB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vention TB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Soins et souti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ganisation de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oins et soutien (prise en charge simultanée TB et VIH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ccès aux antituberculeu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ccès aux AR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762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Influence du VIH sur les P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rganisation de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sures pour éviter la contamination nosocomi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tection du personn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Objectifs à atteindre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ici 2015, avoir maîtrisé la tuberculose et avoir commencé à inverser la tendance actuelle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ici 2015, dépister au moins 70% des nouveaux cas de tuberculose à frottis positif et en guérir au moins 85%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ici 2015, réduire la prévalence de la tuberculose et les taux de mortalité de 50%  par rapport à 1990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’ici 2050, éliminer la tuberculose en tant que problème de santé publique (1 cas pour 1 000 000 d’habitant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lan mondial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alte à la tuberculos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006 - 2015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a nouvelle stratégie Halte à la tuberculose de l’OMS comporte 6 composantes, mais repose essentiellement sur le DOTS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suivre l’extension et le renforcement d’un traitement DOTS de qualité (étendre le DOTS jusqu’aux zones les plus éloignées)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utter contre la co-infection tuberculose / VIH, la tuberculose poly pharmaco-résistante et s’attaquer à d’autres défis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lan mondial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alte à la tuberculos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006 - 2015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omposantes de la nouvelle stratégie Halte à la tuberculose de l’OMS (suite)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tribuer au renforcement des systèmes de santé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mpliquer tous les soignants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onner aux personnes atteintes de tuberculose et aux communautés la capacité d’agir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voriser et promouvoir la recher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lan mondial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alte à la tuberculos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006 - 2015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e financement intégral et l’application du plan permettra de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tteindre l’objectif du Millénaire pour le Développement consistant à stopper la propagation et commencer à inverser la tendance actuel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énéraliser l’accès à un diagnostic et à un traitement de la tuberculose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uver 14 millions de vies supplémentaires 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ter 50 millions de personnes atteintes de tuberculose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iter tous les cas de tuberculose multi-résistante diagnostiqués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ffrir un traitement antirétroviral à 3 millions de patients tuberculeux porteurs du VIH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duire, d’ici 2010, le premier antituberculeux depuis 40 ans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tre au point un nouveau vaccin d’ici 2015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ournir, sur les lieux de soins, des tests de diagnostic rapide peu onéreux de la tubercu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762120" y="76320"/>
            <a:ext cx="7619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an mondial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Halte à la tuberculose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2006 - 2015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ctr">
              <a:spcBef>
                <a:spcPts val="1074"/>
              </a:spcBef>
              <a:spcAft>
                <a:spcPts val="1074"/>
              </a:spcAft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300" spc="-1" strike="noStrike">
                <a:solidFill>
                  <a:srgbClr val="ffffff"/>
                </a:solidFill>
                <a:latin typeface="Arial"/>
              </a:rPr>
              <a:t>2. Importance du suivi des activités de collaboration TB/VIH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63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lan de la se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600200"/>
            <a:ext cx="776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roblématique de la tuberculo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lation TB et VI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nfluence du VIH sur les P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lan mondial Halte à la tuberculose 2006 – 20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Importance des activités de collabo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Paquet minimum d’activités de lutte contre la TB et le VIH dans un cadre intégr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uivi des activités TB et VI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xemples venant du terra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éfis du Suivi Evaluation des activités TB/VI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uide de collaboration pour les activités TB/VIH 200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794640" y="1523880"/>
            <a:ext cx="2349360" cy="3124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762120"/>
            <a:ext cx="693432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2193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TB and VI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048120"/>
            <a:ext cx="42292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Réduire le poids de la Tb sur les PVVI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A1. Intensifier la détection des cas deT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A2. Traitement préventif a l’IN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A3. Contrôle de l’infection TB dans les CS et autres établiss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64767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971800"/>
            <a:ext cx="6248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. Réduire le poids de la TB sur les PV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1. Intensifier la détection des cas de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2. Traitement préventif a l’I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3. Contrôle de l’infection TB dans les CS et autre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établiss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800600"/>
            <a:ext cx="6400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.Réduire le poids du VIH sur les patients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1. Conseil et dépistage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2. Prévention du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3. Traitement préventif au Cotrimoxaz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4. Soins et supports VIH/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5. TARV  aux patients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990720"/>
            <a:ext cx="624852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. Etablissement d’un mécanisme de collab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1. Organe de coordination TB/VI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2. Surveillance du VIH chez les patients T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3. Planification conjointes TB/VI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4. Suivi et Evaluation des activités TB/VIH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TB et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191120"/>
            <a:ext cx="1790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rogramme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6095880"/>
            <a:ext cx="2247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Programme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Nous avons de fortes interven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phylaxie Cotrimoxazole (patient en traitement TB)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Réduit la mortalité de 50%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ARV précoce (patient en traitement TB)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duit la mortalité de 50%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tection et traitement de la TB. Non traité, la TB devient rapidement fata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vision de la prévention INH (IPT)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Réduction de l’incidence de la TB de 50%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ovision du TARV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duction de l’incidence de la TB de 50- 80%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Besoin d’un meilleur suivi de la performance des programmes et de la qualit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e suivi des activités TB/VIH est important parce qu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grès vers les OMDs; Mortalité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Un impact rapide sur la mortalité par des interventions est possible</a:t>
            </a:r>
            <a:r>
              <a:rPr b="1" lang="fr-FR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88000" cy="4343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858000" y="3352680"/>
            <a:ext cx="376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But du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Partenariat p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l‘Arrêt de la T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Reduire la mortal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de 50% du niveau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867280" y="4038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94440" y="186516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5520" y="5334120"/>
            <a:ext cx="252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Mortalité sans les PVVIH: B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Mortalité chez les PVVIH: Ro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Objectifs OMDs: Spots no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15960" y="2057400"/>
            <a:ext cx="8299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9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1" lang="de-DE" sz="3900" spc="-1" strike="noStrike">
                <a:solidFill>
                  <a:srgbClr val="ffffff"/>
                </a:solidFill>
                <a:latin typeface="Arial"/>
              </a:rPr>
              <a:t>Revision des indicateurs de suivi TB/VI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05320" y="304920"/>
            <a:ext cx="541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dicateurs harmonisés pour le Suivi et l‘Evaluation des activités conjointes TB / VIH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45000" t="15626" r="19999" b="21876"/>
          <a:stretch/>
        </p:blipFill>
        <p:spPr>
          <a:xfrm>
            <a:off x="228600" y="152280"/>
            <a:ext cx="3375000" cy="5639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657600" y="1752480"/>
            <a:ext cx="5486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uide révisé des indicateurs TB/VI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Harmonisé par l'OMS, ONUSIDA, Fonds mondial, PEPFAR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lignés avec le format générique d'enregistrement et de rapportage de l'O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ssentiel pour le suivi de 3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Nouveauté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3 au lieu de 20 indicateu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indicateurs de contrôle des infec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8320" t="21208" r="44481" b="17513"/>
          <a:stretch/>
        </p:blipFill>
        <p:spPr>
          <a:xfrm>
            <a:off x="2514600" y="304920"/>
            <a:ext cx="4394160" cy="5790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34320" y="990720"/>
            <a:ext cx="1547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% STATUS VIH CON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2438280"/>
            <a:ext cx="1655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DETECTION DES CAS DE TB/VI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5257800"/>
            <a:ext cx="1547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PROV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AR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809880"/>
            <a:ext cx="175248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PROV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Prophylaxie CT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124080"/>
            <a:ext cx="175248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CONDOMS GRATU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828800"/>
            <a:ext cx="15429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% VIH Posi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572000"/>
            <a:ext cx="16765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% TB/VIH EN SOINS 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77120" y="228600"/>
            <a:ext cx="720720" cy="44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45000" t="15626" r="19999" b="21876"/>
          <a:stretch/>
        </p:blipFill>
        <p:spPr>
          <a:xfrm>
            <a:off x="0" y="0"/>
            <a:ext cx="2449440" cy="3505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324480" y="304920"/>
            <a:ext cx="609840" cy="366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1920" y="2354040"/>
            <a:ext cx="61070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1066680"/>
            <a:ext cx="1905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STATUT TB A LA DERNIERE VI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1752480"/>
            <a:ext cx="1905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DEBUTE DU TRAITEMENT T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5105520"/>
            <a:ext cx="18288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TRAVAILLEUR DE SANTE AVEC T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3352680"/>
            <a:ext cx="1905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NOUVELLEMENT INSCRITS EN I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267080"/>
            <a:ext cx="18288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PRACTIQUES DE CONTROLE D’INF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18898" t="19222" r="44271" b="21754"/>
          <a:stretch/>
        </p:blipFill>
        <p:spPr>
          <a:xfrm>
            <a:off x="2238480" y="380880"/>
            <a:ext cx="4302000" cy="5357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553080" y="2438280"/>
            <a:ext cx="19051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DETECTION DES 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99"/>
                </a:solidFill>
                <a:latin typeface="Arial"/>
                <a:ea typeface="Arial"/>
              </a:rPr>
              <a:t>(UNGASS 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45000" t="15626" r="19999" b="21876"/>
          <a:stretch/>
        </p:blipFill>
        <p:spPr>
          <a:xfrm>
            <a:off x="0" y="0"/>
            <a:ext cx="2236680" cy="3200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00800" y="0"/>
            <a:ext cx="720720" cy="449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304920"/>
            <a:ext cx="1143000" cy="366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61976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4  Comment les indicateurs sont suivis par les programmes TB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mment les indicateurs sont suivis du côté TB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Cas de TB suspecte: Registre de laboratoire ou registre de cas suspect de TB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Carte/fiche de traitement de la TB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Registre des cas de tuberculose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Rapport trimestriel sur les enregistrements des cas de TB et resultats du trait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-10332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752480"/>
          <a:ext cx="8763120" cy="4297320"/>
        </p:xfrm>
        <a:graphic>
          <a:graphicData uri="http://schemas.openxmlformats.org/drawingml/2006/table">
            <a:tbl>
              <a:tblPr/>
              <a:tblGrid>
                <a:gridCol w="311400"/>
                <a:gridCol w="698400"/>
                <a:gridCol w="700200"/>
                <a:gridCol w="216000"/>
                <a:gridCol w="216000"/>
                <a:gridCol w="853560"/>
                <a:gridCol w="699840"/>
                <a:gridCol w="998640"/>
                <a:gridCol w="711360"/>
                <a:gridCol w="698400"/>
                <a:gridCol w="238320"/>
                <a:gridCol w="227520"/>
                <a:gridCol w="311400"/>
                <a:gridCol w="1045800"/>
                <a:gridCol w="836280"/>
              </a:tblGrid>
              <a:tr h="214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uméro du  suspect de la T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om du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uspect 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a TB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/ 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ress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omplèt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ésulta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u tes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VIH 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ate d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rélèvemen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e crach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ate d’envoi cracha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u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a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ate de réception résultat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ésultats des examen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e crach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,  2     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iche de traitement TB Ouverte (date d’inscriptio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bservations/ diagnostic du Clinicie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_______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_______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_______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_______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_______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2880720" y="87480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REGISTRE DE TB SUSPEC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200" y="125568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nné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6400800"/>
            <a:ext cx="839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sitif (Pos.) ; Négatif (Neg) ;(i) Indéterminé ;(NF) Non Fait/Inconnu. La preuve d'un test VIH effectu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endant ou avant le traitement contre la TB est enregistrée ic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78200" y="1890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Formulair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oblématique de la tuberculo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blème sérieux de santé publ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rbidit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jour 20 000 personnes contractent une tuberculose active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jour, un sujet atteint de tuberculose active infecte en moyenne 10 à 15 person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rtalit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jour, 5 000 personnes en meu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228600" y="1219320"/>
          <a:ext cx="8763120" cy="3546360"/>
        </p:xfrm>
        <a:graphic>
          <a:graphicData uri="http://schemas.openxmlformats.org/drawingml/2006/table">
            <a:tbl>
              <a:tblPr/>
              <a:tblGrid>
                <a:gridCol w="465120"/>
                <a:gridCol w="641520"/>
                <a:gridCol w="885600"/>
                <a:gridCol w="469800"/>
                <a:gridCol w="220680"/>
                <a:gridCol w="981360"/>
                <a:gridCol w="950760"/>
                <a:gridCol w="663480"/>
                <a:gridCol w="554040"/>
                <a:gridCol w="331920"/>
                <a:gridCol w="280800"/>
                <a:gridCol w="330480"/>
                <a:gridCol w="988920"/>
                <a:gridCol w="998640"/>
              </a:tblGrid>
              <a:tr h="150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o 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a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ate de réception de l’échantillon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om et préno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exe M/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g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resse complète </a:t>
                      </a:r>
                      <a:br>
                        <a:rPr sz="1500"/>
                      </a:b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(patients pour diagnostic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om de la structure sanitaire  transferrant</a:t>
                      </a:r>
                      <a:r>
                        <a:rPr b="1" lang="fr-FR" sz="15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otif de l’examen au microscope du crachat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ésultat de l’examen microscopique du crachat</a:t>
                      </a:r>
                      <a:r>
                        <a:rPr b="1" lang="fr-FR" sz="15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o.registre BMU et TB (après inscription) </a:t>
                      </a:r>
                      <a:r>
                        <a:rPr b="1" lang="fr-FR" sz="15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bserv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iagnos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ocher</a:t>
                      </a:r>
                      <a:r>
                        <a:rPr b="1" lang="fr-FR" sz="15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ui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(moi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3143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304920" y="4633560"/>
            <a:ext cx="86104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2160" rIns="722160" tIns="539640" bIns="539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Notes de bas de page apparaissant seulement à la première page du regist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L’établissement  qui a transféré (envoyé) le patient (ou l’échantillon ou les diapositives) pour l'examen microscopique de l’échantillon du crachat.  Utiliser le type standard de transfert de l’établissement selon le bloc 2 </a:t>
            </a:r>
            <a:r>
              <a:rPr b="0" i="1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du Rapport Annuel sur le Programme de Gestion dans BMU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. Un établissement  de transfert est défini comme tout prestataire de soins formellement engagé dans l’une des  opérations de contrôle TB suivantes (Stratégie DOTS): transfert des cas suspects de TB, diagnostic de laboratoire, traitement du patient de TB et assistance au patient pendant le traitemen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ésultat pour chaque échantillon :(NEG): BAAR=0/100 champs; nombre exact : (+)  si BAAR compris entre 1 et 9 /100 champs; :(++)si BAAR compris entre 10-99/100 champs ; : (+++) si BAAR 1-10 /champ; :amas si BAAR &gt; 10 /champ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3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Seuls les nouveaux cas diagnostiqués positifs à la microscopie des crachats doivent être notifiés dans le registre  BMU et le No. du</a:t>
            </a:r>
            <a:r>
              <a:rPr b="0" i="1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Registre TB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du patient. Le but est la de vérifier de façon régulière si tous les patients positifs à la TB par  la microscopie du crachat sont présents dans </a:t>
            </a:r>
            <a:r>
              <a:rPr b="0" i="1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le Registre BMU TB </a:t>
            </a: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et reçoivent le traitemen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84560" y="49356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REGISTRE DU LABORATOITE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15000" y="3581280"/>
            <a:ext cx="3429000" cy="152424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267080"/>
            <a:ext cx="5410080" cy="76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28800" y="3581280"/>
            <a:ext cx="2819520" cy="1905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3063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4114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4114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Notes</a:t>
            </a:r>
            <a:r>
              <a:rPr b="0" lang="fr-FR" sz="17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0c0c0"/>
                </a:solidFill>
                <a:latin typeface="Arial"/>
              </a:rPr>
              <a:t>Les indicateurs TB sont les variables habituellement enregistrées: pas de changemen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énominateur: Nombre de patients TB enregistrés durant la période de notification (trimestrielle/annuel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umérateur: Les personnes vivant avec le VIH, qui connaissent leur statut (positif ou négatif) avant le traitement TB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nclure les personnes vivant avec le VIH sous TAR/CTX avant le traitement T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commandations: indiquer le numéro d'enregistrement VIH/TAR sur ce registre, dans la colonne "Résultats test VIH" (actuellement pas une obligati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* Pour faciliter le croisement des données et connaître le % de patients soignés pour le VI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914400"/>
            <a:ext cx="457200" cy="2286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8880" y="380880"/>
            <a:ext cx="990720" cy="28195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343400" y="4952880"/>
            <a:ext cx="4800600" cy="1905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4920" y="4495680"/>
            <a:ext cx="6933960" cy="7956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702144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5   Comment ces indicateurs sont suivis du côté VIH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5600" y="2057400"/>
            <a:ext cx="8070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buClr>
                <a:srgbClr val="ffffff"/>
              </a:buClr>
              <a:buFont typeface="Arial"/>
              <a:buAutoNum type="arabicPeriod"/>
              <a:tabLst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Dossier de soins VIH/TARV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Registre Pré- AR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Registre TARV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buNone/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ffffff"/>
                </a:solidFill>
                <a:latin typeface="Arial"/>
              </a:rPr>
              <a:t>Rapport transversal trimestri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oblématique de la tuberculos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mplification des facteurs de risque en Afrique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aupérisation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combrement humain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auvaises conditions sanitaires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pidémie de tuberculose croissante essentiellement en raison de l’épidémie de VIH/S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16876" t="16000" r="14375" b="8999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52280" y="-152280"/>
            <a:ext cx="9144000" cy="947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Dossier/Carnet de soins VIH/TA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762120"/>
            <a:ext cx="6094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00400" y="380880"/>
            <a:ext cx="2362320" cy="1219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2971800"/>
            <a:ext cx="53352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2895480"/>
            <a:ext cx="5331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4191120"/>
            <a:ext cx="53352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457200"/>
            <a:ext cx="1752480" cy="762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53280" y="0"/>
            <a:ext cx="53352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96080" y="1371600"/>
            <a:ext cx="11430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"/>
            <a:ext cx="5335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58040" cy="6248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0880" y="3200400"/>
            <a:ext cx="4572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4960" y="396252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ut Tb évalu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83808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19720" y="762120"/>
            <a:ext cx="9144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2057400"/>
            <a:ext cx="60984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68200" y="396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Rapport d'activité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040" y="457200"/>
          <a:ext cx="8631360" cy="6742080"/>
        </p:xfrm>
        <a:graphic>
          <a:graphicData uri="http://schemas.openxmlformats.org/drawingml/2006/table">
            <a:tbl>
              <a:tblPr/>
              <a:tblGrid>
                <a:gridCol w="1751040"/>
                <a:gridCol w="1751040"/>
                <a:gridCol w="808200"/>
                <a:gridCol w="819000"/>
                <a:gridCol w="1751040"/>
                <a:gridCol w="1751040"/>
              </a:tblGrid>
              <a:tr h="45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Période de rapport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Année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MINISTERE DE LA SANTE ou Projet ou Bénéficiaires de subvention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Établissement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ieu: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Pays 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ré-TARV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-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ouveaux patients inscrits et nombre cumulé d'inscrits pour les soins du VI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mbre cumulé de patients inscrits dans l'établissement pour les soins du VIH au début de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uveaux patients inscrits dans l'établissement pour les soins du VIH au cours de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mbre cumulé de patients inscrits dans l'établissement pour les soins du VIH à la fin de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Pourcentage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Hommes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(&gt;14 ans)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b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/o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Femmes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(&gt;14 ans)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/o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Garçons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(0-14 ans)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g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h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i/o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Filles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(0-14 an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k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/o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                 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us-groupe des nouveaux patients inscrits pour les soins du VI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emmes Enceint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Début de la prophylaxie d'INH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Déjà inscrits aux soins pour le VIH et transférés d'un autre établissement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Sous-groupe du nombre cumulé de patients inscrits pour les soins du VI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mbre total de personnes inscrites et éligibles au TARV mais qui n'ont pas commencé le TAR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0" y="685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373720"/>
            <a:ext cx="8088480" cy="4176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-17640" y="228600"/>
          <a:ext cx="9179280" cy="6454800"/>
        </p:xfrm>
        <a:graphic>
          <a:graphicData uri="http://schemas.openxmlformats.org/drawingml/2006/table">
            <a:tbl>
              <a:tblPr/>
              <a:tblGrid>
                <a:gridCol w="1886040"/>
                <a:gridCol w="1973520"/>
                <a:gridCol w="574560"/>
                <a:gridCol w="1119240"/>
                <a:gridCol w="1477800"/>
                <a:gridCol w="216000"/>
                <a:gridCol w="1932120"/>
              </a:tblGrid>
              <a:tr h="3254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ré-TARV  - patients vus pour les soins du VIH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Personnes inscrites au Pré-TARV vues pour les soins du VIH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us-groupe des personnes vues pendant la période de rapport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      </a:t>
                      </a: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TB dépistée à la dernière vis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b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b/a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Traitement contre la TB commencé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/a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ARV- Nouveaux patients inscrits et nombre cumulé d'inscrits pour le TAR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mbre cumulé de patients au début de la période du rapport ayant commencé le TARV dans l'établiss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uveaux patients ayant commencé le TARV dans l'établissement au cours de la période du rappor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Nombre cumulé de patients à la fin de la période d rapport ayant commencé le TARV dans l'établiss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Hommes (&gt;1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b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c/r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emmes (&gt;1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d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/r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5-1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g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h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i/r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1-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j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k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l/r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&lt; 1 a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/r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-17640" y="608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981080"/>
            <a:ext cx="8534520" cy="71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228600" y="304920"/>
          <a:ext cx="8686800" cy="6378480"/>
        </p:xfrm>
        <a:graphic>
          <a:graphicData uri="http://schemas.openxmlformats.org/drawingml/2006/table">
            <a:tbl>
              <a:tblPr/>
              <a:tblGrid>
                <a:gridCol w="4010040"/>
                <a:gridCol w="1265400"/>
                <a:gridCol w="216000"/>
                <a:gridCol w="539640"/>
                <a:gridCol w="659520"/>
                <a:gridCol w="327240"/>
                <a:gridCol w="683280"/>
                <a:gridCol w="985680"/>
              </a:tblGrid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. TARV - Patients actuellement sous TARV - 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basé sur l'âge au début du TAR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chéma thérapeutique ARV 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à la fin de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Hom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Fem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mbre recevant un TARV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lig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 Adultes et enfants sous TARV de 1</a:t>
                      </a:r>
                      <a:r>
                        <a:rPr b="1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 lig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m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n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o/ag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ombre recevant un TARV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lig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ultes (&gt;1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q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r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5-1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u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u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1-4 a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v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x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x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Enfants (&lt; 1 a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z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a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Total Adultes et enfants sous TARV de 2</a:t>
                      </a:r>
                      <a:r>
                        <a:rPr b="1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lig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b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c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dultes et enfants en 1</a:t>
                      </a:r>
                      <a:r>
                        <a:rPr b="1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 et 2</a:t>
                      </a:r>
                      <a:r>
                        <a:rPr b="1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 lig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(Total actuellement sous TARV)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Pourcentage 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e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f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spcAft>
                          <a:spcPts val="5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바탕"/>
                        </a:rPr>
                        <a:t>Sous-groupe des patients actuellement sous TAR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TB dépistée à la dernière visite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h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99"/>
                          </a:solidFill>
                          <a:latin typeface="Times New Roman"/>
                          <a:ea typeface="바탕"/>
                        </a:rPr>
                        <a:t>Traitement contre la TB commencé pendant la période du ra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ai/ag x 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228600" y="5867280"/>
            <a:ext cx="8686800" cy="7956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15960" y="1407960"/>
            <a:ext cx="7910640" cy="324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362320" y="3581280"/>
            <a:ext cx="838080" cy="115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2360" y="4811760"/>
            <a:ext cx="11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Testés pou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0160" y="481176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Positif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Pour 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39000" y="4811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T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81640" y="4735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TAR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17200" y="473544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Dépist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pour la T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23040" y="480060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Diagnostiqu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comme T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797240" y="48117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59000" y="53704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Diagnostic et traitement du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hez les patients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41120" y="5384880"/>
            <a:ext cx="318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Diagnostic, traitement et préven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de la TB chez les patients séropositif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Pour le V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838080" cy="115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66280" y="68580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ctivités conjointes TB-VIH, 2002-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732720" y="4653000"/>
            <a:ext cx="11509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4508640"/>
            <a:ext cx="129528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93080" y="4653000"/>
            <a:ext cx="11509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24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340000" y="2349360"/>
            <a:ext cx="39607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Arial"/>
              </a:rPr>
              <a:t>En 2008, 1 sur 4 estimé être  patients séropositifs atteints de tuberculose ont été identifiés et mis en traitement antituberculeu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4495680"/>
            <a:ext cx="838080" cy="115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4572000"/>
            <a:ext cx="914400" cy="115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oblématique de la tuberculos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32763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a situation en Afrique contraste singulièrement avec le tableau encourageant dans les autres régions, puisque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les taux d’incidence de la tuberculose ont triplé depuis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990 dans les pays où la prévalence du VIH est élevé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et continuent de progresser dans l’ensemble du continent à un rythme annuel de 3 à 4%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 nombre total de nouveaux cas de tuberculose est resté stable et le pourcentage des nouveaux malades dans la population mondiale a légèrement baissé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43314" t="44956" r="34655" b="29883"/>
          <a:stretch/>
        </p:blipFill>
        <p:spPr>
          <a:xfrm>
            <a:off x="0" y="1484280"/>
            <a:ext cx="2305080" cy="244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56360" y="907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43497" t="44682" r="34180" b="29185"/>
          <a:stretch/>
        </p:blipFill>
        <p:spPr>
          <a:xfrm>
            <a:off x="2340000" y="1484280"/>
            <a:ext cx="2374920" cy="244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60000" y="907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36360" y="981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3860640"/>
            <a:ext cx="762120" cy="398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12280" y="3933720"/>
            <a:ext cx="753840" cy="398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2%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01720" y="3933720"/>
            <a:ext cx="689760" cy="398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rcRect l="42629" t="44760" r="34655" b="30145"/>
          <a:stretch/>
        </p:blipFill>
        <p:spPr>
          <a:xfrm>
            <a:off x="4356000" y="148428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525440" y="907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71800" y="4648320"/>
            <a:ext cx="5329080" cy="916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Le dépistage du VIH est entrain de devenir un soins standard pour tous les patients atteints de tubercul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05360" y="4005360"/>
            <a:ext cx="689760" cy="398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4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rcRect l="46459" t="47056" r="38777" b="33759"/>
          <a:stretch/>
        </p:blipFill>
        <p:spPr>
          <a:xfrm>
            <a:off x="7157880" y="1484280"/>
            <a:ext cx="1719360" cy="2376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38080" y="228600"/>
            <a:ext cx="72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TESTS VIH POUR LES PATIENTS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791320"/>
            <a:ext cx="2438280" cy="1066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156280"/>
            <a:ext cx="432000" cy="2160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156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ctivité non rapport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5443560"/>
            <a:ext cx="432000" cy="216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5732640"/>
            <a:ext cx="432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6019920"/>
            <a:ext cx="43200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6307200"/>
            <a:ext cx="432000" cy="216000"/>
          </a:xfrm>
          <a:prstGeom prst="rect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54435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 1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573264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15 - 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601992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51 - 7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6307200"/>
            <a:ext cx="14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+ 7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4343400"/>
            <a:ext cx="26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Proportion des patients tuberculeux testés pour le VI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dicateurs de soins intégrés (ficti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urveiller la prévalence du VIH parmi les patients tuberculeux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25" descr=""/>
          <p:cNvPicPr/>
          <p:nvPr/>
        </p:nvPicPr>
        <p:blipFill>
          <a:blip r:embed="rId1"/>
          <a:stretch/>
        </p:blipFill>
        <p:spPr>
          <a:xfrm>
            <a:off x="395280" y="1295280"/>
            <a:ext cx="3981600" cy="2210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"/>
          <p:cNvPicPr/>
          <p:nvPr/>
        </p:nvPicPr>
        <p:blipFill>
          <a:blip r:embed="rId2"/>
          <a:stretch/>
        </p:blipFill>
        <p:spPr>
          <a:xfrm>
            <a:off x="4643280" y="1295280"/>
            <a:ext cx="4249800" cy="22100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6"/>
          <p:cNvSpPr/>
          <p:nvPr/>
        </p:nvSpPr>
        <p:spPr>
          <a:xfrm>
            <a:off x="915840" y="351936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atients TB testés pour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5797080" y="3595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atients TB/VIH C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30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897360" cy="1942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1"/>
          <p:cNvSpPr/>
          <p:nvPr/>
        </p:nvSpPr>
        <p:spPr>
          <a:xfrm>
            <a:off x="1333440" y="59580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atients TB/VIH A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14800"/>
            <a:ext cx="4181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urcentage de cas de tuberculose liée à une séropositivité concomitante auxquels ont été administrés un traitement antiTB et un traitement contre le VI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fis du S&amp;E TB/VIH: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ise en œuvre au niveau des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1133640"/>
            <a:ext cx="7532640" cy="4700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79960" y="3294000"/>
            <a:ext cx="50832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4880" y="3736800"/>
            <a:ext cx="31932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2394000"/>
            <a:ext cx="318960" cy="377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64080" y="1227240"/>
            <a:ext cx="318960" cy="377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23160" y="4527720"/>
            <a:ext cx="318960" cy="377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16680" y="3402000"/>
            <a:ext cx="31932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58040" y="1946160"/>
            <a:ext cx="318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19360" y="3259080"/>
            <a:ext cx="507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29160" y="1627200"/>
            <a:ext cx="318960" cy="377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4520" y="5157720"/>
            <a:ext cx="31932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03480" y="4672080"/>
            <a:ext cx="318960" cy="377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64000" y="3213000"/>
            <a:ext cx="507960" cy="6098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29160" y="4425840"/>
            <a:ext cx="318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29120" y="5203800"/>
            <a:ext cx="318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19360" y="5100480"/>
            <a:ext cx="318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84600" y="1828800"/>
            <a:ext cx="31896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79640" y="3287880"/>
            <a:ext cx="319320" cy="37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211800" y="3281400"/>
            <a:ext cx="319320" cy="37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30720" y="3198960"/>
            <a:ext cx="434880" cy="639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41760" y="4687920"/>
            <a:ext cx="319320" cy="37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80" y="4676760"/>
            <a:ext cx="31932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122800"/>
            <a:ext cx="318960" cy="3780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3080" y="46483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TAR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4320" y="510552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Traitement T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et services de dépistage VIH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1270440" y="2186640"/>
            <a:ext cx="454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untry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73840" y="3301920"/>
            <a:ext cx="507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98760" y="3745080"/>
            <a:ext cx="31896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27240" y="2401920"/>
            <a:ext cx="31896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57600" y="1235160"/>
            <a:ext cx="31932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16680" y="4535640"/>
            <a:ext cx="31932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10560" y="3409920"/>
            <a:ext cx="318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51560" y="1954080"/>
            <a:ext cx="318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12880" y="3267000"/>
            <a:ext cx="50832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22680" y="1635120"/>
            <a:ext cx="318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8400" y="5165640"/>
            <a:ext cx="318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97000" y="4680000"/>
            <a:ext cx="31932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57880" y="3220920"/>
            <a:ext cx="507960" cy="6098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22680" y="4433760"/>
            <a:ext cx="31932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22640" y="5211720"/>
            <a:ext cx="31932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12880" y="5108400"/>
            <a:ext cx="31932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78120" y="1836720"/>
            <a:ext cx="31932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73520" y="3295800"/>
            <a:ext cx="31896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05680" y="3289320"/>
            <a:ext cx="31896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24240" y="3206880"/>
            <a:ext cx="435240" cy="63972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35640" y="4695840"/>
            <a:ext cx="318960" cy="37764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5638680"/>
            <a:ext cx="318960" cy="378000"/>
          </a:xfrm>
          <a:prstGeom prst="ellipse">
            <a:avLst/>
          </a:prstGeom>
          <a:solidFill>
            <a:srgbClr val="2b358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2800" y="5638680"/>
            <a:ext cx="74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3 I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devraient exist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partout ... y compris le S&amp;E des soins du VI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0" y="2133720"/>
            <a:ext cx="45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rci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oblématique de la tuberculos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TUBERCULOSE et VIH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En Afrique, le VIH est le principal déterminant de la hausse de l’incidence de la tuberculose observée ces 10 dernières anné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VIH et tuberculose accélèrent mutuellement leur progression 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e VIH affaiblit le système immunitaire 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Une personne positive pour le VIH qui est aussi infectée par le bacille de la tuberculose a beaucoup plus de risques de contracter la tuberculose (maladie) qu’une personne infectée par le bacille mais qui est négative pour le VIH 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Association meurtrière : tuberculose = 13% décès par SIDA ; VIH = 25 % décès par tuberculos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23960"/>
            <a:ext cx="8153280" cy="524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652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228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Taux d’incidence Estimée de la Tuberculose en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4:22:53Z</dcterms:created>
  <dc:creator>CPC</dc:creator>
  <dc:description/>
  <dc:language>en-US</dc:language>
  <cp:lastModifiedBy>user</cp:lastModifiedBy>
  <dcterms:modified xsi:type="dcterms:W3CDTF">2011-02-18T11:25:41Z</dcterms:modified>
  <cp:revision>131</cp:revision>
  <dc:subject/>
  <dc:title>Slide 1</dc:title>
</cp:coreProperties>
</file>