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F876B-4FB9-4450-B392-194A0D43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C0E19-EA4D-4856-8489-529FD732C3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3600F-3348-45C1-9727-F83F600CE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768DB-05E4-4DB3-8EEC-1D1216C68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D476F-0CB3-463F-9D84-4950F5213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B1040-8B51-42DF-A632-6BCD2597D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4626C-7D9E-4BAE-A050-D9D26747A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9BC0D-301F-40DD-9131-10DDDAD18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9B78-B9BC-4F7C-8540-9248D7B45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327CB-B00F-4FFE-BE70-6886D7405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7753F-D8E4-4551-B9D1-914C29F6E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53D83-059C-4135-A416-BC87A28251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24353-7623-4547-900C-F9B3B6F04A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41944-BB9A-4A73-8E35-D02568F77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90822-6111-48A0-82C5-68E6373DE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90054-12B4-43D5-BFDE-3C92C2D76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9F112-761D-4210-B97A-9A700268DE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4AE3C-BFA2-44DA-90E9-620A6C9F6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872B5-8837-4028-B205-D5B3B783B2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49C84-AC0E-4B64-9F91-93E5492EB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676F4-096D-4C4D-A2AE-F42E33D688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30BAA-27A5-44BB-BF2D-3411EAA58A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755DE-4AF3-425E-9D88-F07ECEC9F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610F9-B7AF-49C0-B53D-0035BF208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09CB9-A7F7-4A2B-A3E0-7BB45400D9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44280" y="4479480"/>
            <a:ext cx="519732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F22C3-BFCC-4CDC-93D3-D390A3694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4CBC9-66D9-4F77-8B9B-E97C3FE13F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EC75D-DFD0-4D58-A16C-56D2B5DE36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967D1-5856-47C9-9AF2-4320AAC85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3" descr="Vertical_RGB_600"/>
          <p:cNvPicPr/>
          <p:nvPr/>
        </p:nvPicPr>
        <p:blipFill>
          <a:blip r:embed="rId2"/>
          <a:stretch/>
        </p:blipFill>
        <p:spPr>
          <a:xfrm>
            <a:off x="4772160" y="5010120"/>
            <a:ext cx="1672920" cy="13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logo_2004"/>
          <p:cNvPicPr/>
          <p:nvPr/>
        </p:nvPicPr>
        <p:blipFill>
          <a:blip r:embed="rId3"/>
          <a:stretch/>
        </p:blipFill>
        <p:spPr>
          <a:xfrm>
            <a:off x="6705720" y="50101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1600200" cy="1455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5"/>
          <a:stretch/>
        </p:blipFill>
        <p:spPr>
          <a:xfrm>
            <a:off x="533520" y="5105520"/>
            <a:ext cx="1952640" cy="1423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0120" y="406440"/>
            <a:ext cx="8483760" cy="2565360"/>
          </a:xfrm>
          <a:prstGeom prst="rect">
            <a:avLst/>
          </a:prstGeom>
          <a:noFill/>
          <a:ln w="9360">
            <a:solidFill>
              <a:srgbClr val="2b358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ntroduction au plan de Suivi et Evalu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éminaire régional sur le Suivi 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 Evaluation des programmes VIH/s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s clés d’un plan de S&amp;E (2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5-Plan de démonstration de l’impac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6- Plan de dissémination et utilisation de l’inform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7-Analyses des obstacles à la qualités des données et solutions potentiell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8-Plan de mise en œuvre du Plan de S&amp;E avec calendrier et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3000" y="-36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 1 : 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bjectif du pla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cription du processus de développement du pla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. Financi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. Humain(rôles et responsabilités, organigram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. Infra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 2 : Description du program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cription du problèm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dre conceptue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ut et objectif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cription du programm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Activité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Répartition géographiqu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Populations c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Calend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. Cadre logique /Cadre des résulta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 3 : Les indicateurs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85280" indent="-4852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oix des indicateurs basée su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Les cadres conceptuel et logiqu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Les besoins en information stratégique pour la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se de décision à chaque niveau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La disponibilité des donné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Les besoins programmatiqu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. La disponibilité des ressourc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 3 : Les indicateurs(2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. Matrice des indicateur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 présentant les indicateurs y compris les sources de données, la périodicité et la personne respon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. Feuille de référ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i décrit chaque indicateur, comment il est mesuré,en soulignant les considérations hypothétiques et interprétativ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7142" t="35427" r="51426" b="17142"/>
          <a:stretch/>
        </p:blipFill>
        <p:spPr>
          <a:xfrm>
            <a:off x="17524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84405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Matrice des indicateu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3714" t="25142" r="17999" b="15999"/>
          <a:stretch/>
        </p:blipFill>
        <p:spPr>
          <a:xfrm>
            <a:off x="171360" y="1089000"/>
            <a:ext cx="86677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lément 4 : Description des mécanismes de collecte des donné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-Méthodes/outils/sources utilisés pour la collecte des donné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dossiers des patients, registres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système de surveilla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fiches de gestion de stocks(préservatifs, brochures, etc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rapports des formatio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rapports trimestriels/rapport du proj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lément 4 : Description des mécanismes de collecte des donné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SIS Routin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enquêtes de popul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Enquête au niveau des formations sanitair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enquête spéciale des populations(ex: groupes à haut risque ou groupe vulnéra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Aut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. 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rôles et responsabilités de chaque groupe /membre du systè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lément 5: Plan de démonstration  du résultat/ impact du 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méthodologie pour mesurer l’impact du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( évaluation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- Méthode expériment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- Méthode quasi-expériment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- Méthode non-expériment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otocole pour des études spé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Objectif Génér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bjectif général du module « Introduction au plan de S&amp;E » est de faire acquérir aux participants des capacités en élaboration d’un plan de S&amp;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lément 6 : Plan de dissémination et utilisation des données/résultats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82680"/>
            <a:ext cx="8915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scription des mécanismes de stockage des données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. Description des utilisateurs des résultats bien définie à chaque niveau et du mode de rétro-information (feed-back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. Les méthodes de dissémin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rapports (calendrier et auditoi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autres méthodes – média,évènements,etc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lément 7 : Les obstacles à la qualité des données et les actions pour résoudre ces problè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crire les obstacles à la qualité et les contraintes de la performance du système et les solutions potentielles: exemple un bon système de super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 8 : Plan de mise en oeuv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plan d’action détaillé pour la mise en œuvre du plan S&amp;E inclua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que activité nécessaire à la collecte, l’analyse, l’interprétation,la dissémination et l’utilisation des donné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calendrier pour chaque activité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esponsable pour chaque activité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budget nécessaire pour chaque activit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728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Quelques exemples budgétai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7840" y="1639800"/>
          <a:ext cx="8521560" cy="4372200"/>
        </p:xfrm>
        <a:graphic>
          <a:graphicData uri="http://schemas.openxmlformats.org/drawingml/2006/table">
            <a:tbl>
              <a:tblPr/>
              <a:tblGrid>
                <a:gridCol w="3394080"/>
                <a:gridCol w="2452680"/>
                <a:gridCol w="2674800"/>
              </a:tblGrid>
              <a:tr h="742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ème d’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ût total annu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fa de 2007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ériodicité de collecte des donné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ème national sentin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84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ème d’information de g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9970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ème de surveill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35471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quête Démographique et de Sant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708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s les 4  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écensement na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122 057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s les 10 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39"/>
          <p:cNvSpPr/>
          <p:nvPr/>
        </p:nvSpPr>
        <p:spPr>
          <a:xfrm>
            <a:off x="2286000" y="6340320"/>
            <a:ext cx="68580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: Rommelmann, et.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sts and Results of Information Systems for Poverty Monitoring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Sector Reform, and Local Government Reform In Tanzan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Quelques standa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Utilité :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un plan de S&amp;E doit être utile et servir les besoins d’information stratégique des utilisateurs dans le prise de déc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Faisabilité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: être réaliste, prud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Déontologie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: conduit légalement et éthique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Précision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: il doit être préc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Quelques conseils 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fai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commencer tô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impliquer toutes les parties prenantes à chaque étap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évaluer la capacité existante et l’utiliser quand c’est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éviter les duplications dans la collecte et le rapportage des donné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Quelques conseils (2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évite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collecter les informations qui ne seront pas utilisé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- sous-estimer l’importance de l’appropriation du processus par toutes les parties prenantes à chaque é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 SUR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Garder le court et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Quelques réfé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8088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80880" y="1008000"/>
            <a:ext cx="83185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mchak S et al.  (2000). A Guide to Monitoring and Evaluating Adolescent Reproductive Health Programs. Focus on Young Adults, Tool Series 5. Washington D.C.: Focus on Young Adul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trand J et al. (1996). Evaluating Family Planning Programs.  The Evaluation Pro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sthaus, et. al. (1999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nhancing Organizational Performance: A toolbox for Self-Assess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oy KL et al. (2005).  Building Monitoring, Evaluation and Reporting Systems for HIV/AIDS Programs.  PA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mmelmann V, P Setel, Y Hemed, H Mponezya, G Angeles, T Boerma (2003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sts and Results of Information Systems for Poverty Monitoring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Sector Reform, and Local Government Reform In Tanzan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50"/>
              </a:spcBef>
              <a:spcAft>
                <a:spcPts val="125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AIDS. (2000).  National AIDS Programmes: A Guide to Monitoring and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1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CI POUR VOTRE AT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bjectifs spécifiqu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 terme de la séance, les participants doivent être  capables 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iquer les fonctions d’un plan de suivi et éval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finir les principaux éléments d’un plan de suivi et éval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borer un plan de suivi et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28958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ten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éfinition d’un plan de suivi et évaluatio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nctions principales d’un plan de suivi et évaluatio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osantes principales d’un plan de suivi et évaluatio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odalités d’élaboratio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’un plan de suivi et évaluatio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éthode pédagogiq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éthode Participa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osé introductif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Défin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Le plan de S&amp;E est un document qui décrit un système(le système de S&amp;E) qui relie des informations stratégiques obtenues à travers différents systèmes de collecte des données et les décisions qui sont nécessaires à l’amélioration des programmes de santé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Fonctions 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sume comment le programme mesurera ses résultats;(permet une responsabilisatio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urnit un consensus autour d’un document(encourage Transparence et  Responsabilité)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uide la mise en œuvre du système de S&amp;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Standardisation et Coordinatio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Fonctions (2/2)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 plan de S&amp;E est un document vivant qui a besoin d’être ajusté quand c’est nécess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fonction et la forme d’un plan de S&amp;E seront différentes aux différents niveaux du systè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Eléments clés d’un plan de S&amp;E (1/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.Introduc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.Description du programme –buts, objectifs,cadre conceptuel, cadre de résultat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3- Description des indicateurs etc.(matrice et feuille de référenc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4-Description des mécanismes de collecte des donné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4:22:53Z</dcterms:created>
  <dc:creator>CPC</dc:creator>
  <dc:description/>
  <dc:language>en-US</dc:language>
  <cp:lastModifiedBy>amani</cp:lastModifiedBy>
  <dcterms:modified xsi:type="dcterms:W3CDTF">2011-02-06T17:05:42Z</dcterms:modified>
  <cp:revision>137</cp:revision>
  <dc:subject/>
  <dc:title>Slide 1</dc:title>
</cp:coreProperties>
</file>