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471D81A-3270-4DEC-ACA0-B91A51D387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3DC3FAD-4DAB-4E36-A88A-0D9149F4CAC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024C5ED-868C-4F3B-85D4-2B188C96115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B68B7BC-7C2E-414E-A729-9102EA64C74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BAE1BC0-7719-4656-B42A-F5113AE17A7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4339F6D-6AA6-43EA-81A3-6E07DB96BA7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35F43B8-8205-47EA-A5F5-389E57B4AB0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31E2558-23E5-4A97-8ECC-EF541DC81F4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01465A8-35A3-4B21-9F0C-9BFEF559CA6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47000C8-42D2-4A9F-BBC3-62597DA298D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3495C75-E030-4EA0-9D65-6D0013ED127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735B936-9905-4511-BFB3-E07B79FB8E4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66DC51A-05C0-4A6C-84DF-0A4F27C3225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6284ECC-B936-4C2D-B46F-4589BF87EF1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E81072B-FE33-4B5F-BC76-65249E7FD9C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0F1B9BA-AEE5-491D-B5A5-7F839861D27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809656D-EFEE-4BFF-B53D-4F9C35F405B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74C26E7-EE20-4B15-8D28-3DE65F47447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7A8A53D-AB6B-47BE-AC9C-24EC216A70B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3A267A8-E002-40BB-B223-E4D65652233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F8F4ECF-A9BB-4495-A164-30E446EE68F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EEDBC62-67A7-4452-AB59-C417B98A762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BFA7DB2-0651-425B-A558-B6CE8744467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30C4966-BED8-4688-9CC9-3E98EB00128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4E3A9BC-9640-4F57-9B1B-30707FC8D3A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3" descr="Vertical_RGB_600"/>
          <p:cNvPicPr/>
          <p:nvPr/>
        </p:nvPicPr>
        <p:blipFill>
          <a:blip r:embed="rId2"/>
          <a:stretch/>
        </p:blipFill>
        <p:spPr>
          <a:xfrm>
            <a:off x="4772160" y="5010120"/>
            <a:ext cx="1672920" cy="1371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logo_2004"/>
          <p:cNvPicPr/>
          <p:nvPr/>
        </p:nvPicPr>
        <p:blipFill>
          <a:blip r:embed="rId3"/>
          <a:stretch/>
        </p:blipFill>
        <p:spPr>
          <a:xfrm>
            <a:off x="6705720" y="50101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4"/>
          <a:stretch/>
        </p:blipFill>
        <p:spPr>
          <a:xfrm>
            <a:off x="990720" y="5021280"/>
            <a:ext cx="1600200" cy="1455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5"/>
          <a:stretch/>
        </p:blipFill>
        <p:spPr>
          <a:xfrm>
            <a:off x="2851200" y="4960800"/>
            <a:ext cx="1660320" cy="1820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53352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Suivi e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t Evaluation des programmes VIH/sida- </a:t>
            </a: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Séminaire régi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Arial"/>
              </a:rPr>
              <a:t>CESAG-  Dakar, Séné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Indicateurs de Suivi et Evalu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3600" spc="-1" strike="noStrike">
                <a:solidFill>
                  <a:srgbClr val="ffffff"/>
                </a:solidFill>
                <a:latin typeface="Tahoma"/>
              </a:rPr>
              <a:t>Mesures courantes des indicateurs(1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2400" spc="-1" strike="noStrike">
                <a:solidFill>
                  <a:srgbClr val="ffffff"/>
                </a:solidFill>
                <a:latin typeface="Tahoma"/>
              </a:rPr>
              <a:t>Décomp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Nombre de prestataires form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Nombre de préservatifs distribu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2400" spc="-1" strike="noStrike">
                <a:solidFill>
                  <a:srgbClr val="ffffff"/>
                </a:solidFill>
                <a:latin typeface="Tahoma"/>
              </a:rPr>
              <a:t>Calc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% d’établissements sanitaires ayant un prestataire form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Taux de mortalité matern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Taux de fertili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3200" spc="-1" strike="noStrike">
                <a:solidFill>
                  <a:srgbClr val="ffffff"/>
                </a:solidFill>
                <a:latin typeface="Tahoma"/>
              </a:rPr>
              <a:t>Mesures courantes des indicateurs(2/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Index composite: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un « score », une combinaison de plusieurs indicateu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ndice de développement humain(espérance de vie à la naissance, éducation, niveau de vi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Index d’effort des programmes VI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Seuils: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ésence, abse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63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3200" spc="-1" strike="noStrike">
                <a:solidFill>
                  <a:srgbClr val="ffffff"/>
                </a:solidFill>
                <a:latin typeface="Tahoma"/>
              </a:rPr>
              <a:t>Types de mesures d’un indicateur(1/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21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Un indicateur peut êt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fr-CI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t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rat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proportion/pourcentag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moy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class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no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Tahoma"/>
              </a:rPr>
              <a:t>index composite</a:t>
            </a:r>
            <a:r>
              <a:rPr b="1" lang="fr-CI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39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3600" spc="-1" strike="noStrike">
                <a:solidFill>
                  <a:srgbClr val="ffffff"/>
                </a:solidFill>
                <a:latin typeface="Tahoma"/>
              </a:rPr>
              <a:t>Types de mesures des indicateurs(2/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2400" spc="-1" strike="noStrike">
                <a:solidFill>
                  <a:srgbClr val="ffffff"/>
                </a:solidFill>
                <a:latin typeface="Tahoma"/>
              </a:rPr>
              <a:t>Taux :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 Nombre de sujets qui répondent aux critères de l’évènement étudié/Population cible, au cours d’une période de temps bien défin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 u="sng">
                <a:solidFill>
                  <a:srgbClr val="ffffff"/>
                </a:solidFill>
                <a:uFillTx/>
                <a:latin typeface="Tahoma"/>
              </a:rPr>
              <a:t>Exemple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:  Taux de couverture vacc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= Nb. d’enfant vaccinés  / Nb. d’enfants âgés de 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        12-60 mois pendant l’ann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2400" spc="-1" strike="noStrike">
                <a:solidFill>
                  <a:srgbClr val="ffffff"/>
                </a:solidFill>
                <a:latin typeface="Tahoma"/>
              </a:rPr>
              <a:t>Ratio :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  Le numérateur n’est pas inclus dans le dénominate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 u="sng">
                <a:solidFill>
                  <a:srgbClr val="ffffff"/>
                </a:solidFill>
                <a:uFillTx/>
                <a:latin typeface="Tahoma"/>
              </a:rPr>
              <a:t>Exemple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:  Ratio mortalité matern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fr-CI" sz="2400" spc="-1" strike="noStrike">
                <a:solidFill>
                  <a:srgbClr val="ffffff"/>
                </a:solidFill>
                <a:latin typeface="Tahoma"/>
              </a:rPr>
              <a:t>= Nb. de femmes qui meurent pendant la grossesse   ou à l’accouchement  /  Nb. de naissances viv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n parle aussi d’indice de mortalité matern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3600" spc="-1" strike="noStrike">
                <a:solidFill>
                  <a:srgbClr val="ffffff"/>
                </a:solidFill>
                <a:latin typeface="Tahoma"/>
              </a:rPr>
              <a:t>Types de mesures des indicateurs(3/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Moyenne :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 La somme des valeurs observées sur le nombre total d’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</a:rPr>
              <a:t>Exempl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: nombre moyen d’infirmier(e)s formés par an ou par ré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Le classement ou le rang :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  Le niveau dans le grou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</a:rPr>
              <a:t>Exempl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:  le 1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le 2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ahoma"/>
              </a:rPr>
              <a:t>èm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05280" y="3045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I" sz="3600" spc="-1" strike="noStrike">
                <a:solidFill>
                  <a:srgbClr val="ffffff"/>
                </a:solidFill>
                <a:latin typeface="Tahoma"/>
              </a:rPr>
              <a:t>Types de mesures des indicateurs(4/4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ahoma"/>
              </a:rPr>
              <a:t>Nomb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Exemple : Nombre de préservatifs distribués par les agents de santé communautai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Tahoma"/>
              </a:rPr>
              <a:t>Index composite</a:t>
            </a:r>
            <a:r>
              <a:rPr b="0" lang="fr-FR" sz="2500" spc="-1" strike="noStrike">
                <a:solidFill>
                  <a:srgbClr val="ffffff"/>
                </a:solidFill>
                <a:latin typeface="Tahoma"/>
              </a:rPr>
              <a:t> : un ‘score’, une combinaison de plusieurs indicateu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Exemple 1 : L’index de l’effort des programmes de s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Exemple 2: Indicateur de prévention des IST,  exprimes en 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IS1/anciennement IP6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Histoire de la maladie, Examen physique, trai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IS2/anciennement IP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intérêt du condom, notification aux partenaires et référence pour le CD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M" sz="3600" spc="-1" strike="noStrike">
                <a:solidFill>
                  <a:srgbClr val="ffffff"/>
                </a:solidFill>
                <a:latin typeface="Tahoma"/>
              </a:rPr>
              <a:t>Caractéristiques d’un bon indicateu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MA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écif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is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or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M" sz="3600" spc="-1" strike="noStrike">
                <a:solidFill>
                  <a:srgbClr val="ffffff"/>
                </a:solidFill>
                <a:latin typeface="Tahoma"/>
              </a:rPr>
              <a:t>Caractéristiques d’un bon indicateur(1/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écifiqu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: mesure claire et précise de ce qu’il est sensé mesure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% du personnel formé (n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% du personnel qui a reçu une formation en management dans les six derniers mois(ou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asurab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reur de mesure minima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mbre de personnes utilisant un condom(n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nombre de personnes qui savent comment utiliser un coorectement un condom(ou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M" sz="3600" spc="-1" strike="noStrike">
                <a:solidFill>
                  <a:srgbClr val="ffffff"/>
                </a:solidFill>
                <a:latin typeface="Tahoma"/>
              </a:rPr>
              <a:t>Caractéristiques d’un bon indicateur(2/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aptable 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eurs existantes dans différents groupes de population et sous différentes approches du program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ontant du budget alloué au programme VIH/sida(n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% du budget alloué au programme national VIH/sida(ou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Réalisable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: disponibilité des valeurs de l’indicate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Taux de mortalité(n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% de naissances assistées par du personnel de santé(ou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M" sz="3600" spc="-1" strike="noStrike">
                <a:solidFill>
                  <a:srgbClr val="ffffff"/>
                </a:solidFill>
                <a:latin typeface="Tahoma"/>
              </a:rPr>
              <a:t>Caractéristiques d’un bon indicateur(3/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Temporel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: mesure à intervalles réguliers et appropriés en fonction des objectifs et des activités du program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indicateur est obtenu à des intervalles régul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urquoi les indicateurs sont-ils importants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s indicateurs fournissent des informations de S&amp;E vitales pour la prise de décisions à chaque niveau et à chaque étape de l’exécution du projet/program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ahoma"/>
              </a:rPr>
              <a:t>Critères de sélection d’un indicate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Disponibilité de donn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ogique et lien avec les cadres de suivi et éval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Ressources/ coû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Besoins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rogrammatiques, du gouvernement, des baill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onsensus entre les parties pren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xigences des baille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inq niveaux d’indicateur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tr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roces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xtr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ff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Différents niveaux d’indicateu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344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Indicateurs d’intra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Mesurent les ressources fournies pour exécuter les activité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montant d’argent mobilis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nombre de personnes recruté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s fournitures dispon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Indicateurs de Processus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mesurent les activités exécut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ont des données quanti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xempl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nombre de formations effectu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nombre de matériels d’IEC imprim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nombre de sites de Conseil dépistage volontaire (CDV) cr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Indicateurs d’extra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MC" sz="2800" spc="-1" strike="noStrike">
                <a:solidFill>
                  <a:srgbClr val="ffffff"/>
                </a:solidFill>
                <a:latin typeface="Tahoma"/>
              </a:rPr>
              <a:t>mesurent les produits ou les services off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MC" sz="2400" spc="-1" strike="noStrike">
                <a:solidFill>
                  <a:srgbClr val="ffffff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nombre des CDV offrant des services aux jeune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e nombre de médecins formés en suivi é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Indicateurs d’eff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esurent le changement dans le comportement des bénéfici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esurent l’atteinte des objecti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ettent l’accent sur les résultats immédiats, intermédiaires ou moyen terme du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xe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centage de jeunes de la population utilisant régulièrement les services CD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centage de jeunes de la population dont le niveau de connaissance en matière de prévention du VIH s’est accr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Indicateurs d’imp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mesurent le résultat à long te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Taux de morbidité et de morta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Taux de fécond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Taux d’incid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pérationnalisation d’un indicateur (1/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Un fois un indicateur choisi de façon appropriée, il aura besoin d’ être mieux défini pour être opération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 ce stade, un indicateur précédemment sélectionné peut être rejeté simplement parce que non facilement opérationne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pérationnalisation d’un indicateur (2/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Questions utiles pour l’opérationnalis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urces des données (numérateur et dénominateur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réquence de collecte des numérateurs et dénominateur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réquence de traitement et d’analyse de l’indicate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iveau d’agrégation  dans le temps et l’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ible objective  de l’indicateur  qui a besoin d’ être atteint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uil  ( valeur minimale ou maximale) pour lequel il faut déclencher une acti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ature de la décision ou action quand le seuil est atte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clusion(1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s indicateurs aident ā montrer les changements  directs ou indirects opérer dans un programme/proj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 choix d’un indicateur requiert un haut degré de jugement faisant appel ā une approche participative : recherche de consen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a sélection des indicateurs doit tenir compte des caractéristiques de ces derniers et des éléments ā considérer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ur juger de leurs opérationnalis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30492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ahoma"/>
              </a:rPr>
              <a:t>Objectif géné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18288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objectif général du module «  Généralités sur les indicateurs  » est de faire acquérir aux stagiaires les connaissances sur la construction des indicate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clusion(2/2)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’importance de la décision ā prendre peut contrebalancer les problèmes de coût  liés ā la collecte de l’indicateur et conduire ā le reteni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arfois les coût  élevés des indicateurs peut conduire ā l’abandon d’un indicateur même si la décision ā prendre semble d’une grande import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Tuyau de sélection des indicateur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550"/>
              </a:spcAft>
              <a:buClr>
                <a:srgbClr val="ddddd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Keep it straightforward and simple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550"/>
              </a:spcAft>
              <a:buClr>
                <a:srgbClr val="ddddd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endre la sélection des indicateurs direct et simp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Référen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294920"/>
            <a:ext cx="8534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spcAft>
                <a:spcPts val="601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icator Manuals/Guidelin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IDS Programmes: A Guide to Monitoring and Evaluating Antiretroviral Programmes, WHO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who.int/hiv/pub/me/naparv/en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de to Monitoring and Evaluation of the national response for Children Orphaned and Made Vulnerable by HIV/AIDS, UNICEF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ve pour l’elaboration d’indicateurs de base,ONUSIDA/Suvi de la Declaration d’engagement sur le VIH/sida, Rapport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e sida Nationaux; Guide de S/E, ONUSIDA, septembre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.      Design and Implementation of Health Informa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Objectifs spécifiq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ahoma"/>
              </a:rPr>
              <a:t>A la fin de cette séance, les participants doivent être capables 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ahoma"/>
              </a:rPr>
              <a:t>Définir un indicateur 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ahoma"/>
              </a:rPr>
              <a:t>Décrire les caractéristiques d’un  bon indicateu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ahoma"/>
              </a:rPr>
              <a:t>Montrer le lien des indicateurs avec les cadres de suivi et évaluation ex: cadre logique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ahoma"/>
              </a:rPr>
              <a:t>Choisir un indicateur et remplir une feuille de référence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3520" y="380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ahoma"/>
              </a:rPr>
              <a:t>Méthodes pédagog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828800"/>
            <a:ext cx="716292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Exposé introducti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Discu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vaux de group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57200" y="304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ahoma"/>
              </a:rPr>
              <a:t>Plan du </a:t>
            </a:r>
            <a:r>
              <a:rPr b="1" lang="fr-FR" sz="4400" spc="-1" strike="noStrike">
                <a:solidFill>
                  <a:srgbClr val="ffffff"/>
                </a:solidFill>
                <a:latin typeface="Tahoma"/>
              </a:rPr>
              <a:t>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52280" y="1371600"/>
            <a:ext cx="86108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éfinition d’un indica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esures courantes des indica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Types de me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aractéristiques d’un bon indica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ritères de sélection des indica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ifférents niveaux d’indica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Liens entre les indicateurs et les cadres de résult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ode de calcul d’un indica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pérationnalisation des indicate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onclu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ahoma"/>
                <a:ea typeface="Arial"/>
              </a:rPr>
              <a:t>Qu’est-ce qu’un indicateur (1/2)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une </a:t>
            </a: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variable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qui </a:t>
            </a: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me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un </a:t>
            </a: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aspec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 d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  <a:ea typeface="Arial"/>
              </a:rPr>
              <a:t>u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 programme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  <a:ea typeface="Arial"/>
              </a:rPr>
              <a:t> ou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projet (en terme de changemen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  <a:ea typeface="Arial"/>
              </a:rPr>
              <a:t>Il est utilisé pour montrer les changements sur les progrès qu’un programme achève dans la réalisation d’un résultat spécif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33520" y="396252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ahoma"/>
                <a:ea typeface="Arial"/>
              </a:rPr>
              <a:t>Qu’est-ce qu’un indicateur(2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3400" y="1599840"/>
            <a:ext cx="791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’est une information qui fournit une indication pour la pise de décis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Un ensemble approprié d'indicateurs inclut a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oins un indicateur de chaque aspect significatif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du programme ou du projet (c.-à-d. au moins u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ar case du cadre de S&amp;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Indicate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09480" y="22860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euvent être directement comptés et exprimés par un nom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%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# d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réquence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atio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é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spect des délais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800600" y="220968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liquent la perception, peuvent être analysés quantitati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Niveau 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gruence avec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tisfaction avec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naissance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é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équation de 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nce d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783080" y="1523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Quantitat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950440" y="15238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Qualitat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44320" y="6172200"/>
            <a:ext cx="45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gine: Origine: UNIFEM RBM Curriculum: Module 5: Indica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4:44:47Z</dcterms:created>
  <dc:creator>El Hadji Gueye</dc:creator>
  <dc:description/>
  <dc:language>en-US</dc:language>
  <cp:lastModifiedBy>user</cp:lastModifiedBy>
  <dcterms:modified xsi:type="dcterms:W3CDTF">2011-02-15T16:21:04Z</dcterms:modified>
  <cp:revision>155</cp:revision>
  <dc:subject/>
  <dc:title>Les résultats d’un auto-analyse de capacité</dc:title>
</cp:coreProperties>
</file>