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4012920" y="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5480" y="705960"/>
            <a:ext cx="4716360" cy="35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956440"/>
            <a:ext cx="3071880" cy="471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4012920" y="8956440"/>
            <a:ext cx="3071880" cy="471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29D030-3621-4219-A8F0-03D634673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971796-95D4-4FA4-9835-E0E740D099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7B795C-56D1-46BE-A732-0A8277F98D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4852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328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2376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4852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328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23760" y="274320"/>
            <a:ext cx="7763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4852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328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2376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4852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328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23760" y="274320"/>
            <a:ext cx="7763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3" descr="Vertical_RGB_600"/>
          <p:cNvPicPr/>
          <p:nvPr/>
        </p:nvPicPr>
        <p:blipFill>
          <a:blip r:embed="rId2"/>
          <a:stretch/>
        </p:blipFill>
        <p:spPr>
          <a:xfrm>
            <a:off x="3724200" y="5010120"/>
            <a:ext cx="1673280" cy="1371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4" descr="logo_2004"/>
          <p:cNvPicPr/>
          <p:nvPr/>
        </p:nvPicPr>
        <p:blipFill>
          <a:blip r:embed="rId3"/>
          <a:stretch/>
        </p:blipFill>
        <p:spPr>
          <a:xfrm>
            <a:off x="5934240" y="5010120"/>
            <a:ext cx="1447560" cy="13716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7" descr=""/>
          <p:cNvPicPr/>
          <p:nvPr/>
        </p:nvPicPr>
        <p:blipFill>
          <a:blip r:embed="rId4"/>
          <a:stretch/>
        </p:blipFill>
        <p:spPr>
          <a:xfrm>
            <a:off x="1676520" y="5021280"/>
            <a:ext cx="1600200" cy="1455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Suivi des approvisionnements et de l’utilisation des ARV des programmes VIH/SID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0" y="35812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99"/>
                </a:solidFill>
                <a:latin typeface="Arial"/>
              </a:rPr>
              <a:t>Suivi e</a:t>
            </a: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t Evaluation des programmes VIH/SIDA- </a:t>
            </a:r>
            <a:r>
              <a:rPr b="1" lang="fr-FR" sz="1800" spc="-1" strike="noStrike">
                <a:solidFill>
                  <a:srgbClr val="ffff99"/>
                </a:solidFill>
                <a:latin typeface="Arial"/>
              </a:rPr>
              <a:t>Séminaire régi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99"/>
                </a:solidFill>
                <a:latin typeface="Arial"/>
              </a:rPr>
              <a:t>CESAG-  Dakar, Sénégal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99"/>
                </a:solidFill>
                <a:latin typeface="Arial"/>
              </a:rPr>
              <a:t>07 au 18 février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Suivi de la séle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istence d’un comité de sélection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Nombre et fréquence des réunions du comité de sé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Niveau d’actualisation de la liste des produi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iste-t-il une directive nationale ?/ Existe-t-il des protocoles de traitement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s médicaments sont ils préqualifié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Suivi de l’acquis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Nombre d’appel d’off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Nombre de contrats signé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élais  de livra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’organisation responsable des achats dispose t’ elle de règles écrites et d’un manuel de procédur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Suivi de la planification des acha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7763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Arial"/>
              </a:rPr>
              <a:t>Planification des achats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’est ce qui va être acheté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and cela va t- il être acheté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elles procédures d’achat seront mises en œuvr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elle est le coût total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Suivi de la prévision et de la planification des achats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Arial"/>
              </a:rPr>
              <a:t>Pré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elle est la quantité de produits nécessair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Approvisionnement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798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LEMENTS DE QUAN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périodicité de comman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nombre de malades sous trait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nombre de malades attend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protocoles de traitement utilisé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stock exista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dates de péremption du stock existant  (estimer la durée de vie du stock existant en fonction des sorties mensuel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délai de livrais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stock de sécurit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Quantité pour 3 moi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Quantité à commander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(Nombre malades x traitement mensuel x 3mois) +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(Nombre de malades attendus par mois x protocoles x 3mois) + Stock de Sécurité + (CMM x Délai de Livraison) – Stock disponible – Stock en c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Eléments de quantific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édicaments pour I.O.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Basée sur la morbidit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QAC = {(Prévalence de l’IO chez les PVVIH suivies x Nbre de PVVIH suivies) x protocole de traitement x durée du traitement + SS} – Stock dispon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ou sur la consom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QAC= (CMM*3) - Stock disponible</a:t>
            </a:r>
            <a:r>
              <a:rPr b="0" i="1" lang="fr-FR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Suivi du stockage (1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iste-t-il une surface de stockage suffisante à tous les niveaux de la chaîne de distribution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iste t- il des installations de réfrigération suffisant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iste-t-il une politique de réduction des pertes et gaspillages pour cause de péremption, vol, détérioration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Suivi du stockage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systéme de gestion des stocks permet il de collecter des données pour chaque  sit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Nombre d’inventaires réalisés?,  Quelle est la régularité des inventair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Suivi de la distribution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el type de circuit? / Quelle est le pourcentage de pays couvert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ombien de points de distribution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Y a-t-il une analyse des difficultés? (absence de route, zone de conflit, longues distan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iste une logistique de transport suffisante avec une capacité de stockage adéquate 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Plan de travai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as pratiques  30 minu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résentation  30 minu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scussions /Échanges d’expériences 30 minu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Suivi de l’utilisation (1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personnel a-t-il été formé à l’utilisation  des ARV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elles sont les mesures prises pour améliorer le suivi de l’observanc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Y a-t-il un recueil régulier des données d’observanc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Suivi de l’utilisation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iste des fiches de recueil de l’observanc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s fiches sont elles disponibles sur l’ensemble des sites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Nb de medicaments pris effectivement / nb de medicaments prescri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ndicateurs : Tau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 95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Suivi de l’utilisation (3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iste-t-il un systéme de suivi des effets secondaires et des résistances des médicaments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iste-t-il un systéme pour appuyer le malade à faire face à l’achat de medicaments IO et au bilan standard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Suivi de la coordin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elles sont les mécanismes pour collecter les ressources  financièr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els sont les cadres de concertation, les mécanisme d’échanges d’informations ? (exemple du comité de gestion des AR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Assurance Qualité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iste-t-il une autorité nationale de réglementation des medicament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 Contrôle de qualité des médicaments est il effectué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iste-t-il des laboratoires convenablement équipés et dotés d’un personnel suffisant et compétent ?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Gestion des inform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iste un systéme de gestion des informations à tous les niveaux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elle est sa nature? ( manuel , informatisé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st il fonctionnel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el est le mécanisme de remontée des donné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Bon de command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iches de stock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Bordereau de livraiso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euille d’inventai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Arial"/>
              </a:rPr>
              <a:t>Regist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Arial"/>
              </a:rPr>
              <a:t>Logiciel informatique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Outils de gestion 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INDICATEURS DE GES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916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Arial"/>
              </a:rPr>
              <a:t>Disponibilit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 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% de temps pendant lequel le produit est disponible, il est traduit par le nombre de jours de rup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Arial"/>
              </a:rPr>
              <a:t>Taux de satisfaction :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apport entre la quantité reçue et la quantité commandée * 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INDICATEURS DE GES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Arial"/>
              </a:rPr>
              <a:t>Taux de péremption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 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Valeur stocks périmés / Valeur des stocks  * 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ff"/>
                </a:solidFill>
                <a:uFillTx/>
                <a:latin typeface="Arial"/>
              </a:rPr>
              <a:t>Nombre de mois de stock disponible et utilisable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 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antité en stock/CMM, il est calculé en fonction de la date de péremp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actifs, préservatifs, 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ême logique en tenant compte des spécificité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haîne de froid pour les réactifs , espace de stockage pour les préservatif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Autres produits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Objectifs de la sess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818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 la fin de la session , chaque participant devr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ouvoir définir l’approvisionnement et connaître les étapes du cycle d’approvisionn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dentifier les questions clés et les indicateurs à retenir à chaque phase du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naître les principaux indicateurs de g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Solution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spcAft>
                <a:spcPts val="901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Disposer d’un plan de gestion des approvisionn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901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Caractéristiques du plan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Simple, court et précis  puis mettre un systéme de suivi des prix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CONCLUSION (1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L’approvisionnement comporte plusieurs étapes ce qui nécessite une programmation soigne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332000" y="1413000"/>
            <a:ext cx="2735280" cy="107928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evoir la sél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es produ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684360" y="2637000"/>
            <a:ext cx="2952720" cy="10080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llecter des informa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ur la consom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68360" y="3716280"/>
            <a:ext cx="2592360" cy="10080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istribu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u st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828800" y="6137280"/>
            <a:ext cx="2158920" cy="72072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i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6084720" y="5950080"/>
            <a:ext cx="2519640" cy="64764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pécifier 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nditions du contr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6588000" y="4869000"/>
            <a:ext cx="2087640" cy="77148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élection 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urnisse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300720" y="3716280"/>
            <a:ext cx="2592360" cy="9144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hoisir la méth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’approvisionn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6012000" y="2637000"/>
            <a:ext cx="2736720" cy="9144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cilier beso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t budg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5364000" y="1413000"/>
            <a:ext cx="2880000" cy="10587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terminer les quantit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Nécessaires 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mma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685800" y="4876920"/>
            <a:ext cx="2303640" cy="7920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éception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La comman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3851280" y="5661000"/>
            <a:ext cx="1944720" cy="9144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uivi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la comman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CONCLUSION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Une bonne planification permet de réduire les pertes, les ruptures et les coû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0" y="1268280"/>
            <a:ext cx="8726400" cy="5235840"/>
            <a:chOff x="0" y="1268280"/>
            <a:chExt cx="8726400" cy="5235840"/>
          </a:xfrm>
        </p:grpSpPr>
        <p:sp>
          <p:nvSpPr>
            <p:cNvPr id="176" name="Oval 5"/>
            <p:cNvSpPr/>
            <p:nvPr/>
          </p:nvSpPr>
          <p:spPr>
            <a:xfrm>
              <a:off x="0" y="1341360"/>
              <a:ext cx="3254400" cy="2951280"/>
            </a:xfrm>
            <a:prstGeom prst="ellipse">
              <a:avLst/>
            </a:prstGeom>
            <a:solidFill>
              <a:srgbClr val="0064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Minimiser les ruptur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Bâtir la confianc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dans le systè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Tirer avantage d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achats Groupé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6"/>
            <p:cNvSpPr/>
            <p:nvPr/>
          </p:nvSpPr>
          <p:spPr>
            <a:xfrm>
              <a:off x="5003640" y="1268280"/>
              <a:ext cx="3362400" cy="3024360"/>
            </a:xfrm>
            <a:prstGeom prst="ellipse">
              <a:avLst/>
            </a:prstGeom>
            <a:solidFill>
              <a:srgbClr val="0064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Coûts d’investisse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Coût de stockag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Péremp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Per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Gaspill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900000" y="5589720"/>
              <a:ext cx="1368360" cy="914400"/>
            </a:xfrm>
            <a:prstGeom prst="rect">
              <a:avLst/>
            </a:prstGeom>
            <a:solidFill>
              <a:srgbClr val="0064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Plu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 stock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8"/>
            <p:cNvSpPr/>
            <p:nvPr/>
          </p:nvSpPr>
          <p:spPr>
            <a:xfrm>
              <a:off x="1692360" y="4437000"/>
              <a:ext cx="3673440" cy="216000"/>
            </a:xfrm>
            <a:prstGeom prst="rect">
              <a:avLst/>
            </a:prstGeom>
            <a:solidFill>
              <a:srgbClr val="0064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AutoShape 9"/>
            <p:cNvSpPr/>
            <p:nvPr/>
          </p:nvSpPr>
          <p:spPr>
            <a:xfrm rot="10800000">
              <a:off x="4211280" y="4653000"/>
              <a:ext cx="360360" cy="1844640"/>
            </a:xfrm>
            <a:prstGeom prst="flowChartMerge">
              <a:avLst/>
            </a:prstGeom>
            <a:solidFill>
              <a:srgbClr val="0064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AutoShape 10"/>
            <p:cNvSpPr/>
            <p:nvPr/>
          </p:nvSpPr>
          <p:spPr>
            <a:xfrm>
              <a:off x="4643280" y="3716280"/>
              <a:ext cx="2786400" cy="2281320"/>
            </a:xfrm>
            <a:prstGeom prst="irregularSeal1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8080"/>
                  </a:solidFill>
                  <a:latin typeface="Arial"/>
                </a:rPr>
                <a:t>RUPTUR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8080"/>
                  </a:solidFill>
                  <a:latin typeface="Arial"/>
                </a:rPr>
                <a:t>DE STOC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1"/>
            <p:cNvSpPr/>
            <p:nvPr/>
          </p:nvSpPr>
          <p:spPr>
            <a:xfrm>
              <a:off x="7236000" y="5516640"/>
              <a:ext cx="1490400" cy="914400"/>
            </a:xfrm>
            <a:prstGeom prst="rect">
              <a:avLst/>
            </a:prstGeom>
            <a:solidFill>
              <a:srgbClr val="0064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Moin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 stock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L’équilibre dans l’approvisionn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Ce volet occupe une grande importance, sa prise en compte dans ses différentes composantes garantit non seulement la performance du système mais aussi sa fonctionnalit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CONCLUSION (3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NCLUSION (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Grâce à un bon suivi évaluation , vous pouvez rationaliser les ressources disponibles et traiter un maximum de malad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JE VOUS REMERCIE DE VOTRE AIMABLE ATTENT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Contex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eu prise en compte de ce volet dans la mise en place des programm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ourtant la disponibilité des médicaments constitue un indicateur de performance  des structures de sant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Défis de l’approvisionn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chaîne d’approvisionnement évolue selon les changements de s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lle fait intervenir un ensemble de services compl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décentralisation en cours dans de nombreux pays  rend encore plus complexe  le process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But de l’approvisionn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’est la mise à dispos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e la quantité nécessai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es produits appropri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épondant à la qual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our le consommateur en beso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u moment appropri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vec efficience ,sécurité et au moindre coût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Rappel des différentes phases du cycle d’approvisionn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éle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cquis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ockage et distribu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til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Schéma du cycle logistiqu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Diagram 4"/>
          <p:cNvGrpSpPr/>
          <p:nvPr/>
        </p:nvGrpSpPr>
        <p:grpSpPr>
          <a:xfrm>
            <a:off x="2121480" y="1754280"/>
            <a:ext cx="5367600" cy="3652920"/>
            <a:chOff x="2121480" y="1754280"/>
            <a:chExt cx="5367600" cy="3652920"/>
          </a:xfrm>
        </p:grpSpPr>
        <p:sp>
          <p:nvSpPr>
            <p:cNvPr id="103" name="_s1028"/>
            <p:cNvSpPr/>
            <p:nvPr/>
          </p:nvSpPr>
          <p:spPr>
            <a:xfrm>
              <a:off x="4127400" y="2271960"/>
              <a:ext cx="1355400" cy="1485720"/>
            </a:xfrm>
            <a:prstGeom prst="ellipse">
              <a:avLst/>
            </a:prstGeom>
            <a:solidFill>
              <a:srgbClr val="6d6fc7">
                <a:alpha val="50000"/>
              </a:srgbClr>
            </a:solidFill>
            <a:ln w="4680">
              <a:solidFill>
                <a:srgbClr val="6d6f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1029"/>
            <p:cNvSpPr/>
            <p:nvPr/>
          </p:nvSpPr>
          <p:spPr>
            <a:xfrm>
              <a:off x="4127400" y="1754280"/>
              <a:ext cx="135540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SELE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1030"/>
            <p:cNvSpPr/>
            <p:nvPr/>
          </p:nvSpPr>
          <p:spPr>
            <a:xfrm>
              <a:off x="4643640" y="2838240"/>
              <a:ext cx="1355400" cy="14857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4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1031"/>
            <p:cNvSpPr/>
            <p:nvPr/>
          </p:nvSpPr>
          <p:spPr>
            <a:xfrm>
              <a:off x="6133680" y="3396600"/>
              <a:ext cx="13554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ACQUISI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032"/>
            <p:cNvSpPr/>
            <p:nvPr/>
          </p:nvSpPr>
          <p:spPr>
            <a:xfrm>
              <a:off x="4127400" y="3403800"/>
              <a:ext cx="1355400" cy="14857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4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033"/>
            <p:cNvSpPr/>
            <p:nvPr/>
          </p:nvSpPr>
          <p:spPr>
            <a:xfrm>
              <a:off x="4127400" y="5037120"/>
              <a:ext cx="13554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DISTRIBU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3611160" y="2838240"/>
              <a:ext cx="1355400" cy="1485720"/>
            </a:xfrm>
            <a:prstGeom prst="ellipse">
              <a:avLst/>
            </a:prstGeom>
            <a:solidFill>
              <a:srgbClr val="2b3585">
                <a:alpha val="50000"/>
              </a:srgbClr>
            </a:solidFill>
            <a:ln w="4680">
              <a:solidFill>
                <a:srgbClr val="2b35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035"/>
            <p:cNvSpPr/>
            <p:nvPr/>
          </p:nvSpPr>
          <p:spPr>
            <a:xfrm>
              <a:off x="2121480" y="3396600"/>
              <a:ext cx="13554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</a:rPr>
                <a:t>UTILIS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5"/>
            <p:cNvSpPr/>
            <p:nvPr/>
          </p:nvSpPr>
          <p:spPr>
            <a:xfrm>
              <a:off x="4266720" y="2208600"/>
              <a:ext cx="115344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omité, </a:t>
              </a:r>
              <a:r>
                <a:rPr b="1" lang="fr-FR" sz="1400" spc="-1" strike="noStrike">
                  <a:solidFill>
                    <a:srgbClr val="ffffff"/>
                  </a:solidFill>
                  <a:latin typeface="Arial"/>
                </a:rPr>
                <a:t>procédures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, processu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 Box 18"/>
            <p:cNvSpPr/>
            <p:nvPr/>
          </p:nvSpPr>
          <p:spPr>
            <a:xfrm rot="19539000">
              <a:off x="4574520" y="3163680"/>
              <a:ext cx="122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Quantific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Rectangle 17"/>
          <p:cNvSpPr/>
          <p:nvPr/>
        </p:nvSpPr>
        <p:spPr>
          <a:xfrm rot="2111400">
            <a:off x="3583440" y="3429360"/>
            <a:ext cx="19814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onné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mment assurer le S/E du cycle d’approvisionnement  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23760" y="2437920"/>
            <a:ext cx="77630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l faudra à chaque étape du cycle, identifier les questions clés et les indicateurs adéqua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14:22:53Z</dcterms:created>
  <dc:creator>CPC</dc:creator>
  <dc:description/>
  <dc:language>en-US</dc:language>
  <cp:lastModifiedBy>seck</cp:lastModifiedBy>
  <dcterms:modified xsi:type="dcterms:W3CDTF">2011-02-03T11:43:36Z</dcterms:modified>
  <cp:revision>135</cp:revision>
  <dc:subject/>
  <dc:title>Slide 1</dc:title>
</cp:coreProperties>
</file>