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BE00-9251-4E9F-A8E6-89B20715D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unsalb.org/"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spatial data.</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2B49-8BD0-44E8-B929-44253F0BB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essential to know both of these before you can use spatial data with confidence. Why? If you know the coordinate system and the datum, you’ll be able to align different layers using a common geographic framework. Otherwise, you could end up with data layers that don’t align and can’t be used together for analysis. Also, different coordinate systems have different uses—some for data display on a three-dimensional surface and some for display and analysis on a flat, two-dimensional surface—and you want to make sure you’re using the right one.</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D82DC2B-A025-4627-8A7D-7ADF9FF11A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système de coordonnées cartésiennes est utilisé pour définir la position des objets par rapport à un axe horizontal, ou axe X (également connu sous le nom de l'axe des abscisses) et un axe vertical, ou axe Y (également connu sous le nom de l'axe des ordonné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ordinate Syste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tesian coordinate system is used to define the location of objects relative to a horizontal axis, or X axis (also known as the axis of abscissas) and a vertical axis, or Y axis (also known as the axis of ordinat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551B-BE07-4B3F-9DBE-072EEAAF8A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afin de fournir des positions précises, un système de coordonnées doit être accompagné par un référentiel géodés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is qu’est-ce que c’est, un référentiel géodésique? Un référentiel géodésique est un un ensemble de points de repères ainsi qu’un modèle mathématique qui décrivent la forme et la taille de la Terre. Les référentiels géodésiques différents représenteront la Terre différemment. Selon l’échelle, la différence entre une position calculée avec un référentiel géodésique particulier et la même position calculée avec un autre référentiel géodésique peut être significative, jusqu'à plusieurs centaines de mè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t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vide accurate physical locations, a coordinate system must be accompanied by a datum. But what is a datum? A datum is a set of reference points and a mathematical model describing the shape and size of the Earth. Different datums represent Earth differently. Depending on the scale, the difference between a location calculated with a given datum and the same location calculated with another datum can be significant, up to several hundred meters.</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46FE-A0C1-4172-A700-111C89D90D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essential to know the datum. If you don’t know the datum and apply the wrong one, you could end up with what is known as a datum shift. So your points, lines, and polygons will be in the wrong place. The end result is that your analysis and conclusions will not be trustwor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décalage de référentiel géodésique.</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5173565-1643-4B52-A289-6172B6C42B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xactitude des donnees est importante, car vous ne pourrez pas utililser les donnees avec confiance pour la prise de decisions si l’exactitude n’est pas bonne.</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DF7813E-D697-469C-AF02-088128BC45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bord vous avez l’exactitude des donnees spatiales. Si les donnees sont d’une qualite inferieure, vous aurez des mauvais resultats. Par exemple, si vous aviez l’intention de faire une enquete ici et a du utililse une limite administrative fausse, vous manqueriez beaucoup de men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you have the accuracy of the spatial data. If the data were created using poor quality control procedures, you can end up with some poor results. It’s the old adage “garbage in, garbage out.” Here’s an example that’s very similar to the one about out-of-date data. If you were going to conduct a survey here, and used the inaccurate boundary, you’d miss a lot of households.</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D41E92E-DB7B-4619-814B-93205146C6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meme, l’exactitude des donnees attributaires—en particulier les identiants geographiques—est tres importante. Si les identifiants geographiques sont manquantes ou sont incorrectes, il pourrait poser beaucoup de problemes pour la cartographie et l’analy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wise, the accuracy of the attribute data—especially the geographic identifiers—is also important. If the geographic identifiers are missing or incorrect, they could have a serious impact on one’s ability to use the data, especially for mapping and spatial analysis.</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CAD0056E-3B2F-43D0-B3D3-51B584BA2E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ly related to the issue of accuracy is that of scale. The Earth, or any portion thereof, is too large to draw on a map without reducing its size. This reduction is expressed as a map scale, which is the ratio of the </a:t>
            </a:r>
            <a:r>
              <a:rPr b="1" lang="en-US" sz="1200" spc="-1" strike="noStrike">
                <a:solidFill>
                  <a:srgbClr val="000000"/>
                </a:solidFill>
                <a:latin typeface="Calibri"/>
              </a:rPr>
              <a:t>distance on the map</a:t>
            </a:r>
            <a:r>
              <a:rPr b="0" lang="en-US" sz="1200" spc="-1" strike="noStrike">
                <a:solidFill>
                  <a:srgbClr val="000000"/>
                </a:solidFill>
                <a:latin typeface="Calibri"/>
              </a:rPr>
              <a:t> to the </a:t>
            </a:r>
            <a:r>
              <a:rPr b="1" lang="en-US" sz="1200" spc="-1" strike="noStrike">
                <a:solidFill>
                  <a:srgbClr val="000000"/>
                </a:solidFill>
                <a:latin typeface="Calibri"/>
              </a:rPr>
              <a:t>actual distance on the surface of the Earth</a:t>
            </a:r>
            <a:r>
              <a:rPr b="0" lang="en-US" sz="1200" spc="-1" strike="noStrike">
                <a:solidFill>
                  <a:srgbClr val="000000"/>
                </a:solidFill>
                <a:latin typeface="Calibri"/>
              </a:rPr>
              <a:t>. For example, if the Earth were drawn at its actual size, the map scale would be 1 to 1, which would mean that 1 inch on the map would equal 1 inch on the ground.</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160D805-2FAB-4924-B260-2DF0E96C4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lide shows an example of a small-scale map of Angola. Since scale is a ratio, small scale is synonymous with a small amount of detail. You see a larger area, but with much less detail. So Luanda just shows up as a small point in this map.</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8A140D7-C092-48A4-A825-4DD5DEB825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here’s an example from Google Maps of a large-scale map of Luanda. You can see individual streets, neighborhoods, and cultural features. Large scale is synonymous with large amounts of detail.</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6352C78-85A1-4B6C-ADF8-F1B9B74E2D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AA80-638E-4826-B073-EB90532F90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key attribute to consider is the format of the file containing the spatial data. There are some proprietary formats out there, and sometimes it’s difficult to find a utility to translate the data into a format that you can use. </a:t>
            </a:r>
            <a:r>
              <a:rPr b="1" lang="en-US" sz="1200" spc="-1" strike="noStrike">
                <a:solidFill>
                  <a:srgbClr val="000000"/>
                </a:solidFill>
                <a:latin typeface="Calibri"/>
              </a:rPr>
              <a:t>Always be sure to know what file formats your system will accept</a:t>
            </a:r>
            <a:r>
              <a:rPr b="0" lang="en-US" sz="1200" spc="-1" strike="noStrike">
                <a:solidFill>
                  <a:srgbClr val="000000"/>
                </a:solidFill>
                <a:latin typeface="Calibri"/>
              </a:rPr>
              <a:t>, and work with data suppliers to provide the data in those formats.</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B62DBA4-FB2E-42D9-B602-02132E027A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l the key attributes we’ve discussed should be identified in an accompanying metadata file</a:t>
            </a:r>
            <a:r>
              <a:rPr b="0" lang="en-US" sz="1200" spc="-1" strike="noStrike">
                <a:solidFill>
                  <a:srgbClr val="000000"/>
                </a:solidFill>
                <a:latin typeface="Calibri"/>
              </a:rPr>
              <a:t>. Regardless of the format in which spatial data are provided, best practice requires that they be accompanied by metadata. Metadata are summary, text-based data used to describe spatial data. They provide information on such things as the scale, currency, source, coordinate system and datum, file format, access constraints, etc. Spatial data obtained without metadata are of suspect quality, and cannot be used with a great deal of confidence.</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CBD8AEF-CEF4-4484-AE0B-74EEBF0F26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n example of metadata that accompanied a file of administrative boundaries for the Democratic Republic of the Congo downloaded from the UN SALB Web site. You can see that the metadata are very thorough, telling you the name of the data set, the time period for which the data are relevant, the file format, which is an ARC/INFO polygon coverage, etc.</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2B80C543-3955-488F-A007-31A57A4A7D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data go on to give you the map projection, which in this case is none since the data are provided using latitude and longitude, the data exchange format, restrictions on use, etc. One of the best things in the metadata is the contact information, which allows you to evaluate the quality of the source and to get in touch with someone if you ne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 can see at the bottom the metadata standard used, which is ISO 19115.</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297F642-DDC0-4960-9190-86BC8BFDEA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Organization for Standardization (ISO) has published ISO 19115 to provide standards for geographic metadata. According to the ISO Web site, metadata (read slide).</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3719CB7-2B5B-497A-84B1-C13507FAE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 19115 defines the following:</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00CFF66-D985-47DB-8362-7E3244468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mmarize, here are some key attributes of spatial data to consider before using the data with confidence.</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5E34FC6C-2864-4AAD-94CA-865CBC768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search for spatial data, you should make sure to contact the people who are leading the National Spatial Data Infrastructure, or NSDI, effort in your country. To define NSDI, it is </a:t>
            </a:r>
            <a:r>
              <a:rPr b="0" i="1" lang="en-US" sz="1200" spc="-1" strike="noStrike">
                <a:solidFill>
                  <a:srgbClr val="000000"/>
                </a:solidFill>
                <a:latin typeface="Calibri"/>
              </a:rPr>
              <a:t>the technology, policies, standards, human resources, and related activities necessary to acquire, process, distribute, use, maintain, and preserve spatial data</a:t>
            </a:r>
            <a:r>
              <a:rPr b="0" lang="en-US" sz="1200" spc="-1" strike="noStrike">
                <a:solidFill>
                  <a:srgbClr val="000000"/>
                </a:solidFill>
                <a:latin typeface="Calibri"/>
              </a:rPr>
              <a:t> </a:t>
            </a: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B46A-64B3-4D21-9C80-449AC5BA89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E8BB-C205-412F-BE4D-5A4B8B9C3B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principles of SDI development is that data are not managed by a central authority, but rather by the data collector or data owner. Often, however, the SDI coordinating agency or agencies in a country will have a metadata repository that can help ensure others are aware of the data. The repository can be just an inventory of what data are available, can contain the data themselves, or be a combination of the two.</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AF15-A4A9-4699-8793-B5B68C09FD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BB64-973D-46B2-A897-FACAD287C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FED4-53D9-4DAA-96F2-FAB7756A6F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58DF-C9F6-448C-9BFA-CC0AF7265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0B3F-6F23-4906-85E1-25FBC6C3BB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who the NDSI lead is in your country, a good place to check is the UN site for second administrative level boundaries, which is accessible via the top link shown on this slide. On the site there is a link to NMAs contact information, which usually provides a name, phone number, and e-mail address for the organization that worked with the UN GIS Working Group in the development of the SALB bound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eb site worth reviewing is gsdi.org. It provides links to a variety of sdi resources, including data portals, newsletters, forums, etc.</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BCDB-21E1-479C-B02F-80F473B42E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main data sources I’ll talk about:</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01BB-2A69-45FE-8DBE-39AECEF51F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lace to start your search for spatial data is with the NSDI actors in your country. You might be able to obtain most or all of the spatial data you need, such as administrative boundaries or facility locations, from the national mapping agency, or national statistical office, or census bur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07AA-DE2F-4DF4-A493-C822DE8F4F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re are data portal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0510-D87F-4ACC-9E9F-B47F74DBE0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networks from the World Health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1E72-8A37-4170-A235-D408CF21A9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lace to look for spatial and public health data is research institutions, such as universities, as well as NGOs. They often have data that can help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B6A5-851F-47D5-A715-27987F70CC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of course there are software suppliers.</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0CAF-A771-4FC5-A2D5-F3E814B7AA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600" spc="-1" strike="noStrike">
              <a:solidFill>
                <a:srgbClr val="000000"/>
              </a:solidFill>
              <a:latin typeface="Calibri"/>
            </a:endParaRPr>
          </a:p>
        </p:txBody>
      </p:sp>
      <p:sp>
        <p:nvSpPr>
          <p:cNvPr id="2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FD5C-35C3-412C-94F2-DB268A258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would be the Data and Maps collection provided by ESRI when you purchase a copy of ArcGIS. It contains a variety of geographic layers for the world, and is useful for constructing base maps.</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E0D1-7C5A-4E94-9635-EE383AC63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ESRI’s ArcGIS Online services, which provides imagery, streets, and other layer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CFB3-7B65-4AAF-9CAD-59204AC44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HealthMapper from WHO, which provides several standardized geographic layers.</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F901-D862-4A32-9850-F87A0C6EF9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DevInfo.</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51A4-9CD7-49F5-9562-C3DFB1EE33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can be obtained from a variety of sources, so leave no stone unturned when trying to locate spatial or attribute data to answer your program questions. Just remember to inspect the metadata and determine the quality and appropriateness of the data before you use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 have a handout for everyone that lists some potential data sources in which you might be interest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E735-4F37-4D5F-881D-589F9C512B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F251-C270-48A4-A9DB-BC8575F71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ABBF-7426-4DEF-9E71-47288CE6A4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AF50F360-D6F7-417F-82AA-18E1F16B24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spatial data can be used with confidence, there are some key attributes of the data to consider. There are many other attributes that should be reviewed, but these are the key items to verify at an absolute minimum. The key attributes are (Read slide).</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2B5EEB49-FEFB-4AC5-AA09-B9A3D9F753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nowing the source of spatial data is essential, as some sources are much more reliable than others. For administrative boundaries, for example, the United Nations provides administrative boundaries through the Second Administrative Level Boundaries (SALB) project (</a:t>
            </a:r>
            <a:r>
              <a:rPr b="0" lang="en-US" sz="1200" spc="-1" strike="noStrike" u="sng">
                <a:solidFill>
                  <a:srgbClr val="0000ff"/>
                </a:solidFill>
                <a:uFillTx/>
                <a:latin typeface="Calibri"/>
                <a:hlinkClick r:id="rId1"/>
              </a:rPr>
              <a:t>www.unsalb.org</a:t>
            </a:r>
            <a:r>
              <a:rPr b="0" lang="en-US" sz="1200" spc="-1" strike="noStrike">
                <a:solidFill>
                  <a:srgbClr val="000000"/>
                </a:solidFill>
                <a:latin typeface="Calibri"/>
              </a:rPr>
              <a:t>). The boundaries obtained from the UNSALB project may not always be completely current, but they are among the most reliable boundaries available because they have been vetted and approved by the national mapping agencies involved in their creation. Many other data sources may not have been subjected to the same rigorous level of quality contro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nowing the source of spatial data should also allow one to contact the originating organization in case there are issues with the data or there is a need for technical support. </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F854FA0-D62E-4D50-8CF6-9D5447B63D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of spatial data is of critical importance, as data can become useless with the passage of tim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75B8214-5828-41E2-8D31-BAFC75A22C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is informal settlement outside São Paulo, Brazil. An out-of-date boundary might look quite different from a current boundary. If you were trying to construct a survey based on the old boundary, you would miss many household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4109E4E-2421-49BD-B045-1F364701BC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3CF36B4-1520-41A9-AB56-07022CD2A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6E53EC-F063-48AA-9AFF-74EE11B13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9A76D81-B208-4DF2-B687-E33D25068A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1072E65-8512-4C56-8C74-DBF761D9F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F0E2B9-D53C-4123-B720-487780369A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F483EA-21BB-4035-A67A-AD74F3E919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9BF915-D905-4F7C-AA95-A1203C0DE2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664EFA-270A-4E88-AEA9-6813AFC836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84938A-5FCC-4C0E-9777-D25B5C4D98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F31DBA-EF43-4C8D-BCDE-8E320EB01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5FFF33-AFF2-45AD-96F1-E7AF409A5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AE8FFB-AA4A-473C-88DA-25AB446CF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B6BF-2751-4E58-87FA-4BFABA3BBB7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11"/>
          <p:cNvGrpSpPr/>
          <p:nvPr/>
        </p:nvGrpSpPr>
        <p:grpSpPr>
          <a:xfrm>
            <a:off x="5442120" y="5816520"/>
            <a:ext cx="3473280" cy="919080"/>
            <a:chOff x="5442120" y="5816520"/>
            <a:chExt cx="3473280" cy="919080"/>
          </a:xfrm>
        </p:grpSpPr>
        <p:pic>
          <p:nvPicPr>
            <p:cNvPr id="7" name="Picture 8" descr="Vertical_RGB_600"/>
            <p:cNvPicPr/>
            <p:nvPr/>
          </p:nvPicPr>
          <p:blipFill>
            <a:blip r:embed="rId2"/>
            <a:stretch/>
          </p:blipFill>
          <p:spPr>
            <a:xfrm>
              <a:off x="6607440" y="5817960"/>
              <a:ext cx="1115640" cy="914400"/>
            </a:xfrm>
            <a:prstGeom prst="rect">
              <a:avLst/>
            </a:prstGeom>
            <a:ln w="0">
              <a:noFill/>
            </a:ln>
          </p:spPr>
        </p:pic>
        <p:pic>
          <p:nvPicPr>
            <p:cNvPr id="8" name="Picture 9" descr="logo_2004"/>
            <p:cNvPicPr/>
            <p:nvPr/>
          </p:nvPicPr>
          <p:blipFill>
            <a:blip r:embed="rId3"/>
            <a:stretch/>
          </p:blipFill>
          <p:spPr>
            <a:xfrm>
              <a:off x="7950240" y="5817960"/>
              <a:ext cx="965160" cy="914400"/>
            </a:xfrm>
            <a:prstGeom prst="rect">
              <a:avLst/>
            </a:prstGeom>
            <a:ln w="0">
              <a:noFill/>
            </a:ln>
          </p:spPr>
        </p:pic>
        <p:pic>
          <p:nvPicPr>
            <p:cNvPr id="9" name="Picture 10" descr=""/>
            <p:cNvPicPr/>
            <p:nvPr/>
          </p:nvPicPr>
          <p:blipFill>
            <a:blip r:embed="rId4"/>
            <a:stretch/>
          </p:blipFill>
          <p:spPr>
            <a:xfrm>
              <a:off x="5442120" y="5816520"/>
              <a:ext cx="938160" cy="91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3" name="Group 9"/>
          <p:cNvGrpSpPr/>
          <p:nvPr/>
        </p:nvGrpSpPr>
        <p:grpSpPr>
          <a:xfrm>
            <a:off x="849240" y="5021280"/>
            <a:ext cx="7445520" cy="1455840"/>
            <a:chOff x="849240" y="5021280"/>
            <a:chExt cx="7445520" cy="1455840"/>
          </a:xfrm>
        </p:grpSpPr>
        <p:pic>
          <p:nvPicPr>
            <p:cNvPr id="84" name="Picture 13" descr="Vertical_RGB_600"/>
            <p:cNvPicPr/>
            <p:nvPr/>
          </p:nvPicPr>
          <p:blipFill>
            <a:blip r:embed="rId2"/>
            <a:stretch/>
          </p:blipFill>
          <p:spPr>
            <a:xfrm>
              <a:off x="3811680" y="5063040"/>
              <a:ext cx="1672920" cy="1371960"/>
            </a:xfrm>
            <a:prstGeom prst="rect">
              <a:avLst/>
            </a:prstGeom>
            <a:ln w="0">
              <a:noFill/>
            </a:ln>
          </p:spPr>
        </p:pic>
        <p:pic>
          <p:nvPicPr>
            <p:cNvPr id="85" name="Picture 14" descr="logo_2004"/>
            <p:cNvPicPr/>
            <p:nvPr/>
          </p:nvPicPr>
          <p:blipFill>
            <a:blip r:embed="rId3"/>
            <a:stretch/>
          </p:blipFill>
          <p:spPr>
            <a:xfrm>
              <a:off x="6847200" y="5063040"/>
              <a:ext cx="1447560" cy="1371960"/>
            </a:xfrm>
            <a:prstGeom prst="rect">
              <a:avLst/>
            </a:prstGeom>
            <a:ln w="0">
              <a:noFill/>
            </a:ln>
          </p:spPr>
        </p:pic>
        <p:pic>
          <p:nvPicPr>
            <p:cNvPr id="86" name="Picture 15" descr=""/>
            <p:cNvPicPr/>
            <p:nvPr/>
          </p:nvPicPr>
          <p:blipFill>
            <a:blip r:embed="rId4"/>
            <a:stretch/>
          </p:blipFill>
          <p:spPr>
            <a:xfrm>
              <a:off x="849240" y="5021280"/>
              <a:ext cx="1600200" cy="1455840"/>
            </a:xfrm>
            <a:prstGeom prst="rect">
              <a:avLst/>
            </a:prstGeom>
            <a:ln w="0">
              <a:noFill/>
            </a:ln>
          </p:spPr>
        </p:pic>
      </p:grpSp>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iso.org/"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unsalb.org/" TargetMode="External"/><Relationship Id="rId2" Type="http://schemas.openxmlformats.org/officeDocument/2006/relationships/hyperlink" Target="http://www.gsdi.org/SDILink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NN</a:t>
            </a:r>
            <a:r>
              <a:rPr b="1" lang="en-US" sz="3600" spc="-1" strike="noStrike">
                <a:solidFill>
                  <a:srgbClr val="ffffff"/>
                </a:solidFill>
                <a:latin typeface="Arial"/>
                <a:ea typeface="Arial"/>
              </a:rPr>
              <a:t>ÉES SPATIALES</a:t>
            </a:r>
            <a:endParaRPr b="1" lang="en-US" sz="3600" spc="-1" strike="noStrike">
              <a:solidFill>
                <a:srgbClr val="ffffff"/>
              </a:solidFill>
              <a:latin typeface="Arial"/>
            </a:endParaRPr>
          </a:p>
        </p:txBody>
      </p:sp>
      <p:sp>
        <p:nvSpPr>
          <p:cNvPr id="133" name="PlaceHolder 2"/>
          <p:cNvSpPr>
            <a:spLocks noGrp="1"/>
          </p:cNvSpPr>
          <p:nvPr>
            <p:ph type="subTitle"/>
          </p:nvPr>
        </p:nvSpPr>
        <p:spPr>
          <a:xfrm>
            <a:off x="376200" y="2736360"/>
            <a:ext cx="83916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STEWART</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Evaluation</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février 2011</a:t>
            </a: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t Evaluation des programmes VIH/SIDA- Séminaire régional </a:t>
            </a: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CESAG - Dakar, Sénég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52"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Content Placeholder 3" descr="KenyaCensusHierarchy_Table_v2.jpg"/>
          <p:cNvPicPr/>
          <p:nvPr/>
        </p:nvPicPr>
        <p:blipFill>
          <a:blip r:embed="rId1"/>
          <a:stretch/>
        </p:blipFill>
        <p:spPr>
          <a:xfrm>
            <a:off x="2630520" y="1581120"/>
            <a:ext cx="3960720" cy="3959280"/>
          </a:xfrm>
          <a:prstGeom prst="rect">
            <a:avLst/>
          </a:prstGeom>
          <a:ln w="0">
            <a:noFill/>
          </a:ln>
        </p:spPr>
      </p:pic>
      <p:sp>
        <p:nvSpPr>
          <p:cNvPr id="154"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ystèmes de coordonnées</a:t>
            </a:r>
            <a:endParaRPr b="1" lang="en-US" sz="3600" spc="-1" strike="noStrike">
              <a:solidFill>
                <a:srgbClr val="ffffff"/>
              </a:solidFill>
              <a:latin typeface="Arial"/>
            </a:endParaRPr>
          </a:p>
        </p:txBody>
      </p:sp>
      <p:grpSp>
        <p:nvGrpSpPr>
          <p:cNvPr id="155" name="Group 27"/>
          <p:cNvGrpSpPr/>
          <p:nvPr/>
        </p:nvGrpSpPr>
        <p:grpSpPr>
          <a:xfrm>
            <a:off x="3132000" y="1663560"/>
            <a:ext cx="3397320" cy="2755800"/>
            <a:chOff x="3132000" y="1663560"/>
            <a:chExt cx="3397320" cy="2755800"/>
          </a:xfrm>
        </p:grpSpPr>
        <p:sp>
          <p:nvSpPr>
            <p:cNvPr id="156" name="TextBox 21"/>
            <p:cNvSpPr/>
            <p:nvPr/>
          </p:nvSpPr>
          <p:spPr>
            <a:xfrm>
              <a:off x="5272200" y="3776760"/>
              <a:ext cx="125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e 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isses</a:t>
              </a:r>
              <a:endParaRPr b="0" lang="en-US" sz="1800" spc="-1" strike="noStrike">
                <a:solidFill>
                  <a:srgbClr val="ffffff"/>
                </a:solidFill>
                <a:latin typeface="Arial"/>
              </a:endParaRPr>
            </a:p>
          </p:txBody>
        </p:sp>
        <p:sp>
          <p:nvSpPr>
            <p:cNvPr id="157" name="TextBox 22"/>
            <p:cNvSpPr/>
            <p:nvPr/>
          </p:nvSpPr>
          <p:spPr>
            <a:xfrm>
              <a:off x="3132000" y="1663560"/>
              <a:ext cx="19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e 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onnées</a:t>
              </a:r>
              <a:endParaRPr b="0" lang="en-US" sz="1800" spc="-1" strike="noStrike">
                <a:solidFill>
                  <a:srgbClr val="ffffff"/>
                </a:solidFill>
                <a:latin typeface="Arial"/>
              </a:endParaRPr>
            </a:p>
          </p:txBody>
        </p:sp>
        <p:sp>
          <p:nvSpPr>
            <p:cNvPr id="158" name="TextBox 23"/>
            <p:cNvSpPr/>
            <p:nvPr/>
          </p:nvSpPr>
          <p:spPr>
            <a:xfrm>
              <a:off x="3577320" y="3829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e</a:t>
              </a:r>
              <a:endParaRPr b="0" lang="en-US" sz="1800" spc="-1" strike="noStrike">
                <a:solidFill>
                  <a:srgbClr val="ffffff"/>
                </a:solidFill>
                <a:latin typeface="Arial"/>
              </a:endParaRPr>
            </a:p>
          </p:txBody>
        </p:sp>
        <p:cxnSp>
          <p:nvCxnSpPr>
            <p:cNvPr id="159" name="Straight Arrow Connector 25"/>
            <p:cNvCxnSpPr/>
            <p:nvPr/>
          </p:nvCxnSpPr>
          <p:spPr>
            <a:xfrm flipV="1">
              <a:off x="4254480" y="3636360"/>
              <a:ext cx="257760" cy="240120"/>
            </a:xfrm>
            <a:prstGeom prst="straightConnector1">
              <a:avLst/>
            </a:prstGeom>
            <a:ln w="1260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férentiels géodésiques</a:t>
            </a:r>
            <a:endParaRPr b="1" lang="en-US" sz="3600" spc="-1" strike="noStrike">
              <a:solidFill>
                <a:srgbClr val="ffffff"/>
              </a:solidFill>
              <a:latin typeface="Arial"/>
            </a:endParaRPr>
          </a:p>
        </p:txBody>
      </p:sp>
      <p:sp>
        <p:nvSpPr>
          <p:cNvPr id="161" name="TextBox 6"/>
          <p:cNvSpPr/>
          <p:nvPr/>
        </p:nvSpPr>
        <p:spPr>
          <a:xfrm>
            <a:off x="3104640" y="4511520"/>
            <a:ext cx="293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ESRI ArcUser April – June 2001</a:t>
            </a:r>
            <a:endParaRPr b="0" lang="en-US" sz="1200" spc="-1" strike="noStrike">
              <a:solidFill>
                <a:srgbClr val="ffffff"/>
              </a:solidFill>
              <a:latin typeface="Arial"/>
            </a:endParaRPr>
          </a:p>
        </p:txBody>
      </p:sp>
      <p:pic>
        <p:nvPicPr>
          <p:cNvPr id="162" name="Picture 2" descr=""/>
          <p:cNvPicPr/>
          <p:nvPr/>
        </p:nvPicPr>
        <p:blipFill>
          <a:blip r:embed="rId1"/>
          <a:stretch/>
        </p:blipFill>
        <p:spPr>
          <a:xfrm>
            <a:off x="2071800" y="1600200"/>
            <a:ext cx="5000400" cy="281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5"/>
          <p:cNvSpPr/>
          <p:nvPr/>
        </p:nvSpPr>
        <p:spPr>
          <a:xfrm>
            <a:off x="940680" y="5313240"/>
            <a:ext cx="72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 Source: Google Earth. Boundary Source: ESRI Data &amp; Maps.</a:t>
            </a:r>
            <a:endParaRPr b="0" lang="en-US" sz="1800" spc="-1" strike="noStrike">
              <a:solidFill>
                <a:srgbClr val="ffffff"/>
              </a:solidFill>
              <a:latin typeface="Arial"/>
            </a:endParaRPr>
          </a:p>
        </p:txBody>
      </p:sp>
      <p:pic>
        <p:nvPicPr>
          <p:cNvPr id="165" name="Picture 8" descr="SpatialDataDatum_Mismatch"/>
          <p:cNvPicPr/>
          <p:nvPr/>
        </p:nvPicPr>
        <p:blipFill>
          <a:blip r:embed="rId1"/>
          <a:stretch/>
        </p:blipFill>
        <p:spPr>
          <a:xfrm>
            <a:off x="2039760" y="1214280"/>
            <a:ext cx="5064480" cy="4116600"/>
          </a:xfrm>
          <a:prstGeom prst="rect">
            <a:avLst/>
          </a:prstGeom>
          <a:ln w="0">
            <a:noFill/>
          </a:ln>
        </p:spPr>
      </p:pic>
      <p:sp>
        <p:nvSpPr>
          <p:cNvPr id="166"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férentiel géodésiqu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68"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ctitude</a:t>
            </a:r>
            <a:endParaRPr b="1" lang="en-US" sz="3600" spc="-1" strike="noStrike">
              <a:solidFill>
                <a:srgbClr val="ffffff"/>
              </a:solidFill>
              <a:latin typeface="Arial"/>
            </a:endParaRPr>
          </a:p>
        </p:txBody>
      </p:sp>
      <p:sp>
        <p:nvSpPr>
          <p:cNvPr id="170"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Picture 5" descr="SaoPauloSlum_Comparison1.jpg"/>
          <p:cNvPicPr/>
          <p:nvPr/>
        </p:nvPicPr>
        <p:blipFill>
          <a:blip r:embed="rId1"/>
          <a:stretch/>
        </p:blipFill>
        <p:spPr>
          <a:xfrm>
            <a:off x="1938240" y="1216080"/>
            <a:ext cx="5267520" cy="4114800"/>
          </a:xfrm>
          <a:prstGeom prst="rect">
            <a:avLst/>
          </a:prstGeom>
          <a:ln w="0">
            <a:noFill/>
          </a:ln>
        </p:spPr>
      </p:pic>
      <p:sp>
        <p:nvSpPr>
          <p:cNvPr id="172" name="Text Box 5"/>
          <p:cNvSpPr/>
          <p:nvPr/>
        </p:nvSpPr>
        <p:spPr>
          <a:xfrm>
            <a:off x="1468440" y="5313240"/>
            <a:ext cx="620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 Source: QuickBird from Digital Globe, 31 Mar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ctitude</a:t>
            </a:r>
            <a:endParaRPr b="1" lang="en-US" sz="3600" spc="-1" strike="noStrike">
              <a:solidFill>
                <a:srgbClr val="ffffff"/>
              </a:solidFill>
              <a:latin typeface="Arial"/>
            </a:endParaRPr>
          </a:p>
        </p:txBody>
      </p:sp>
      <p:sp>
        <p:nvSpPr>
          <p:cNvPr id="174"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7" descr="InaccurateGeoIdentifiers.jpg"/>
          <p:cNvPicPr/>
          <p:nvPr/>
        </p:nvPicPr>
        <p:blipFill>
          <a:blip r:embed="rId1"/>
          <a:stretch/>
        </p:blipFill>
        <p:spPr>
          <a:xfrm>
            <a:off x="2232000" y="1216080"/>
            <a:ext cx="4680000" cy="447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77"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6280" y="219240"/>
            <a:ext cx="775800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helle: petite echelle</a:t>
            </a:r>
            <a:endParaRPr b="1" lang="en-US" sz="3600" spc="-1" strike="noStrike">
              <a:solidFill>
                <a:srgbClr val="ffffff"/>
              </a:solidFill>
              <a:latin typeface="Arial"/>
            </a:endParaRPr>
          </a:p>
        </p:txBody>
      </p:sp>
      <p:sp>
        <p:nvSpPr>
          <p:cNvPr id="179"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Picture 4" descr="AGO_ScaleExample1.jpg"/>
          <p:cNvPicPr/>
          <p:nvPr/>
        </p:nvPicPr>
        <p:blipFill>
          <a:blip r:embed="rId1"/>
          <a:stretch/>
        </p:blipFill>
        <p:spPr>
          <a:xfrm>
            <a:off x="1347840" y="1216080"/>
            <a:ext cx="6448320" cy="447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chelle: Large echelle</a:t>
            </a:r>
            <a:endParaRPr b="1" lang="en-US" sz="3600" spc="-1" strike="noStrike">
              <a:solidFill>
                <a:srgbClr val="ffffff"/>
              </a:solidFill>
              <a:latin typeface="Arial"/>
            </a:endParaRPr>
          </a:p>
        </p:txBody>
      </p:sp>
      <p:sp>
        <p:nvSpPr>
          <p:cNvPr id="182"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3" name="Picture 5" descr="AGO_LargeScaleExample.jpg"/>
          <p:cNvPicPr/>
          <p:nvPr/>
        </p:nvPicPr>
        <p:blipFill>
          <a:blip r:embed="rId1"/>
          <a:stretch/>
        </p:blipFill>
        <p:spPr>
          <a:xfrm>
            <a:off x="1254240" y="1216080"/>
            <a:ext cx="6635520" cy="447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852480" y="550800"/>
            <a:ext cx="7354800" cy="312444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ASURE Evaluation is funded by USAID through Cooperative Agreement GHA-A-00-08-00003-00 and is implemented by the Carolina Population Center at the University of North Carolina at Chapel Hill, in partnership with Futures Group International, John Snow, Inc., Macro International Inc., Management Sciences for Health, and Tulane University. The views expressed in this publication do not necessarily reflect the views of USAID or the United States government.</a:t>
            </a:r>
            <a:br>
              <a:rPr sz="2000"/>
            </a:br>
            <a:endParaRPr b="0" lang="en-US" sz="2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ez-nous en ligne </a:t>
            </a:r>
            <a:r>
              <a:rPr b="0" i="1" lang="en-US" sz="2000" spc="-1" strike="noStrike">
                <a:solidFill>
                  <a:srgbClr val="ffffff"/>
                </a:solidFill>
                <a:latin typeface="Arial"/>
                <a:ea typeface="Arial"/>
              </a:rPr>
              <a:t>à </a:t>
            </a:r>
            <a:r>
              <a:rPr b="0" i="1" lang="en-US" sz="2000" spc="-1" strike="noStrike">
                <a:solidFill>
                  <a:srgbClr val="ffffff"/>
                </a:solidFill>
                <a:latin typeface="Arial"/>
              </a:rPr>
              <a:t>http://www.cpc.unc.edu/measure.</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85"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87"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éta données</a:t>
            </a:r>
            <a:endParaRPr b="1" lang="en-US" sz="3600" spc="-1" strike="noStrike">
              <a:solidFill>
                <a:srgbClr val="ffffff"/>
              </a:solidFill>
              <a:latin typeface="Arial"/>
            </a:endParaRPr>
          </a:p>
        </p:txBody>
      </p:sp>
      <p:sp>
        <p:nvSpPr>
          <p:cNvPr id="189"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0" name="Picture 4" descr="Metadata_Part1.jpg"/>
          <p:cNvPicPr/>
          <p:nvPr/>
        </p:nvPicPr>
        <p:blipFill>
          <a:blip r:embed="rId1"/>
          <a:stretch/>
        </p:blipFill>
        <p:spPr>
          <a:xfrm>
            <a:off x="1712880" y="1216080"/>
            <a:ext cx="5718240" cy="4479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éta données</a:t>
            </a:r>
            <a:endParaRPr b="1" lang="en-US" sz="3600" spc="-1" strike="noStrike">
              <a:solidFill>
                <a:srgbClr val="ffffff"/>
              </a:solidFill>
              <a:latin typeface="Arial"/>
            </a:endParaRPr>
          </a:p>
        </p:txBody>
      </p:sp>
      <p:sp>
        <p:nvSpPr>
          <p:cNvPr id="192"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Metadata_Part2.jpg"/>
          <p:cNvPicPr/>
          <p:nvPr/>
        </p:nvPicPr>
        <p:blipFill>
          <a:blip r:embed="rId1"/>
          <a:stretch/>
        </p:blipFill>
        <p:spPr>
          <a:xfrm>
            <a:off x="2082960" y="1216080"/>
            <a:ext cx="4978080" cy="447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7300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éta données: ISO 19115</a:t>
            </a:r>
            <a:endParaRPr b="1" lang="en-US" sz="3600" spc="-1" strike="noStrike">
              <a:solidFill>
                <a:srgbClr val="ffffff"/>
              </a:solidFill>
              <a:latin typeface="Arial"/>
            </a:endParaRPr>
          </a:p>
        </p:txBody>
      </p:sp>
      <p:sp>
        <p:nvSpPr>
          <p:cNvPr id="195"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nit le schéma exigé pour décrire des informations géographiques et des services. Il fournit des informations sur l'identifiant, la mesure, la qualité, le schéma spatial et temporel, la référence spatiale et la distribution de données géographiques numérique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7400" y="219240"/>
            <a:ext cx="7763040" cy="5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éta données: ISO 19115</a:t>
            </a:r>
            <a:endParaRPr b="1" lang="en-US" sz="3600" spc="-1" strike="noStrike">
              <a:solidFill>
                <a:srgbClr val="ffffff"/>
              </a:solidFill>
              <a:latin typeface="Arial"/>
            </a:endParaRPr>
          </a:p>
        </p:txBody>
      </p:sp>
      <p:sp>
        <p:nvSpPr>
          <p:cNvPr id="198" name="Content Placeholder 4"/>
          <p:cNvSpPr/>
          <p:nvPr/>
        </p:nvSpPr>
        <p:spPr>
          <a:xfrm>
            <a:off x="219240" y="950760"/>
            <a:ext cx="8467560" cy="461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finit les choses suivantes :</a:t>
            </a:r>
            <a:endParaRPr b="0" lang="en-US" sz="2600" spc="-1" strike="noStrike">
              <a:solidFill>
                <a:srgbClr val="ffffff"/>
              </a:solidFill>
              <a:latin typeface="Arial"/>
            </a:endParaRPr>
          </a:p>
          <a:p>
            <a:pPr lvl="1" marL="800280" indent="-343080">
              <a:lnSpc>
                <a:spcPct val="10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sections de métadonnées obligatoires et conditionnelles, entités de métadonnées et éléments de métadonnées;</a:t>
            </a:r>
            <a:endParaRPr b="0" lang="en-US" sz="2200" spc="-1" strike="noStrike">
              <a:solidFill>
                <a:srgbClr val="ffffff"/>
              </a:solidFill>
              <a:latin typeface="Arial"/>
            </a:endParaRPr>
          </a:p>
          <a:p>
            <a:pPr lvl="1" marL="800280" indent="-343080">
              <a:lnSpc>
                <a:spcPct val="10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série minimale de métadonnées exigés pour servir une gamme complète de d'applications de métadonnées;</a:t>
            </a:r>
            <a:endParaRPr b="0" lang="en-US" sz="2200" spc="-1" strike="noStrike">
              <a:solidFill>
                <a:srgbClr val="ffffff"/>
              </a:solidFill>
              <a:latin typeface="Arial"/>
            </a:endParaRPr>
          </a:p>
          <a:p>
            <a:pPr lvl="1" marL="800280" indent="-343080">
              <a:lnSpc>
                <a:spcPct val="10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Éléments de métadonnées facultatifs - pour permettre une description standard plus vaste de données géographiques;</a:t>
            </a:r>
            <a:endParaRPr b="0" lang="en-US" sz="22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méthode pour prolonger/étendre les métadonnées pour adapter des besoins spécialisés</a:t>
            </a:r>
            <a:r>
              <a:rPr b="0" lang="fr-FR" sz="2400" spc="-1" strike="noStrike">
                <a:solidFill>
                  <a:srgbClr val="ffffff"/>
                </a:solidFill>
                <a:latin typeface="Arial"/>
              </a:rPr>
              <a:t>.</a:t>
            </a:r>
            <a:endParaRPr b="0" lang="en-US" sz="2400" spc="-1" strike="noStrike">
              <a:solidFill>
                <a:srgbClr val="ffffff"/>
              </a:solidFill>
              <a:latin typeface="Arial"/>
            </a:endParaRPr>
          </a:p>
        </p:txBody>
      </p:sp>
      <p:sp>
        <p:nvSpPr>
          <p:cNvPr id="199" name="Text Box 5"/>
          <p:cNvSpPr/>
          <p:nvPr/>
        </p:nvSpPr>
        <p:spPr>
          <a:xfrm>
            <a:off x="2883600" y="5164200"/>
            <a:ext cx="337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a:t>
            </a:r>
            <a:r>
              <a:rPr b="0" lang="en-US" sz="1800" spc="-1" strike="noStrike" u="sng">
                <a:solidFill>
                  <a:srgbClr val="c0c0c0"/>
                </a:solidFill>
                <a:uFillTx/>
                <a:latin typeface="Arial"/>
                <a:hlinkClick r:id="rId1"/>
              </a:rPr>
              <a:t>www.iso.org</a:t>
            </a:r>
            <a:r>
              <a:rPr b="0" lang="en-US" sz="1800" spc="-1" strike="noStrike">
                <a:solidFill>
                  <a:srgbClr val="ffffff"/>
                </a:solidFill>
                <a:latin typeface="Arial"/>
              </a:rPr>
              <a:t>, Dec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201"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SDI</a:t>
            </a:r>
            <a:endParaRPr b="1" lang="en-US" sz="3600" spc="-1" strike="noStrike">
              <a:solidFill>
                <a:srgbClr val="ffffff"/>
              </a:solidFill>
              <a:latin typeface="Arial"/>
            </a:endParaRPr>
          </a:p>
        </p:txBody>
      </p:sp>
      <p:sp>
        <p:nvSpPr>
          <p:cNvPr id="20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infrastructure nationale des données spatial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Arial"/>
              </a:rPr>
              <a:t>La technologie, les politiques, les normes, les ressources humaines et les activités liées nécessaires pour acquérir, traiter, distribuer, pour utiliser,  maintenir et préserver les données spati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SDI</a:t>
            </a:r>
            <a:endParaRPr b="1" lang="en-US" sz="3600" spc="-1" strike="noStrike">
              <a:solidFill>
                <a:srgbClr val="ffffff"/>
              </a:solidFill>
              <a:latin typeface="Arial"/>
            </a:endParaRPr>
          </a:p>
        </p:txBody>
      </p:sp>
      <p:sp>
        <p:nvSpPr>
          <p:cNvPr id="20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ur la plupart des pays, il y a une agence de coordination qui dirige, comme l’organisme national de cartographi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Ou peut être un comité composé de multiples agences</a:t>
            </a: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SDI</a:t>
            </a:r>
            <a:endParaRPr b="1" lang="en-US" sz="3600" spc="-1" strike="noStrike">
              <a:solidFill>
                <a:srgbClr val="ffffff"/>
              </a:solidFill>
              <a:latin typeface="Arial"/>
            </a:endParaRPr>
          </a:p>
        </p:txBody>
      </p:sp>
      <p:sp>
        <p:nvSpPr>
          <p:cNvPr id="207" name=""/>
          <p:cNvSpPr txBox="1"/>
          <p:nvPr/>
        </p:nvSpPr>
        <p:spPr>
          <a:xfrm>
            <a:off x="437760" y="1170000"/>
            <a:ext cx="8450280" cy="451800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principe, les données ne devraient pas être gérées par une autorité centrale, mais plutôt par les responsables de la collecte des données ou le propriétaire des donné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ien que les données doivent être accessibles à d'autres.</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onnées spatiales devraient être maintenues dans un dépôt de donné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ventaire des données spatial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fois contient les données </a:t>
            </a:r>
            <a:r>
              <a:rPr b="0" lang="en-US" sz="2400" spc="-1" strike="noStrike">
                <a:solidFill>
                  <a:srgbClr val="ffffff"/>
                </a:solidFill>
                <a:latin typeface="Arial"/>
              </a:rPr>
              <a:t>elles-mêm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ut être une combinai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 général</a:t>
            </a:r>
            <a:endParaRPr b="1" lang="en-US" sz="3600" spc="-1" strike="noStrike">
              <a:solidFill>
                <a:srgbClr val="ffffff"/>
              </a:solidFill>
              <a:latin typeface="Arial"/>
            </a:endParaRPr>
          </a:p>
        </p:txBody>
      </p:sp>
      <p:sp>
        <p:nvSpPr>
          <p:cNvPr id="136" name="PlaceHolder 2"/>
          <p:cNvSpPr>
            <a:spLocks noGrp="1"/>
          </p:cNvSpPr>
          <p:nvPr>
            <p:ph/>
          </p:nvPr>
        </p:nvSpPr>
        <p:spPr>
          <a:xfrm>
            <a:off x="304560" y="1599840"/>
            <a:ext cx="8381880" cy="4419720"/>
          </a:xfrm>
          <a:prstGeom prst="rect">
            <a:avLst/>
          </a:prstGeom>
          <a:noFill/>
          <a:ln w="0">
            <a:noFill/>
          </a:ln>
        </p:spPr>
        <p:txBody>
          <a:bodyPr anchor="t">
            <a:normAutofit/>
          </a:bodyPr>
          <a:p>
            <a:pPr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ctif général du module « Données Spatiales » est de faire acquérir aux participants les compétences pour développer une stratégie pour l’identification des bonnes sources de données spatiales et de données complémentaires qui peuvent faciliter le processus de prise de décision pour le S&amp;E</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90480" y="-360"/>
            <a:ext cx="776304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SDI: GIS et ressources de cartographie</a:t>
            </a:r>
            <a:endParaRPr b="1" lang="en-US" sz="3600" spc="-1" strike="noStrike">
              <a:solidFill>
                <a:srgbClr val="ffffff"/>
              </a:solidFill>
              <a:latin typeface="Arial"/>
            </a:endParaRPr>
          </a:p>
        </p:txBody>
      </p:sp>
      <p:sp>
        <p:nvSpPr>
          <p:cNvPr id="209" name=""/>
          <p:cNvSpPr txBox="1"/>
          <p:nvPr/>
        </p:nvSpPr>
        <p:spPr>
          <a:xfrm>
            <a:off x="923760" y="1279440"/>
            <a:ext cx="7763040" cy="42832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Typiquement l'agence de coordination de NSDI aura la capacité existante pour GIS et la cartographi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eut souvent fournir des conseils sur la capacité disponible pour les choses suivantes:</a:t>
            </a:r>
            <a:endParaRPr b="0" lang="en-US" sz="26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ogiciel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xigences de système</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ssources avec des compétence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Opportunités de formation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90480" y="274680"/>
            <a:ext cx="776304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eur des liaisons santé et NSDI</a:t>
            </a:r>
            <a:endParaRPr b="1" lang="en-US" sz="3600" spc="-1" strike="noStrike">
              <a:solidFill>
                <a:srgbClr val="ffffff"/>
              </a:solidFill>
              <a:latin typeface="Arial"/>
            </a:endParaRPr>
          </a:p>
        </p:txBody>
      </p:sp>
      <p:sp>
        <p:nvSpPr>
          <p:cNvPr id="211" name=""/>
          <p:cNvSpPr txBox="1"/>
          <p:nvPr/>
        </p:nvSpPr>
        <p:spPr>
          <a:xfrm>
            <a:off x="512280" y="1115640"/>
            <a:ext cx="8356680" cy="4334040"/>
          </a:xfrm>
          <a:prstGeom prst="rect">
            <a:avLst/>
          </a:prstGeom>
          <a:noFill/>
          <a:ln w="0">
            <a:noFill/>
          </a:ln>
        </p:spPr>
        <p:txBody>
          <a:bodyPr anchor="t">
            <a:normAutofit fontScale="98000"/>
          </a:bodyPr>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santé n'a pas traditionnellement été à la table du NSDI.</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ignifie que les besoins des autres secteurs (l'agriculture, le développement économique, les ressources naturelles, etc.) sont souvent pris en compte, mais pas les besoins du secteur de la santé.</a:t>
            </a:r>
            <a:endParaRPr b="0" lang="en-US" sz="2600" spc="-1" strike="noStrike">
              <a:solidFill>
                <a:srgbClr val="ffffff"/>
              </a:solidFill>
              <a:latin typeface="Arial"/>
            </a:endParaRPr>
          </a:p>
          <a:p>
            <a:pPr marL="335880" indent="-3358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e population saine est la cruciale pour une population économiquement viable, c'est ainsi que si la santé n'est pas prise en compte cette perspective est perdu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eur des liaison santé et NSDI</a:t>
            </a:r>
            <a:endParaRPr b="1" lang="en-US" sz="3600" spc="-1" strike="noStrike">
              <a:solidFill>
                <a:srgbClr val="ffffff"/>
              </a:solidFill>
              <a:latin typeface="Arial"/>
            </a:endParaRPr>
          </a:p>
        </p:txBody>
      </p:sp>
      <p:sp>
        <p:nvSpPr>
          <p:cNvPr id="213"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orsque la santé est incluse dans les efforts NSDI, elle peut informer les décisions politiques au-delà de la santé:</a:t>
            </a:r>
            <a:endParaRPr b="0" lang="en-US" sz="26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 une nouvelle mine est ouverte, y aura-t-il besoin d’une nouvelle structure de santé pour gérer l'augmentation dans le nombre de travailleurs?</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iste-il une relation entre la présence de routes de camionnage et la prévalence du VIH dans une rég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ouver les acteurs de NSDI</a:t>
            </a:r>
            <a:endParaRPr b="1" lang="en-US" sz="3600" spc="-1" strike="noStrike">
              <a:solidFill>
                <a:srgbClr val="ffffff"/>
              </a:solidFill>
              <a:latin typeface="Arial"/>
            </a:endParaRPr>
          </a:p>
        </p:txBody>
      </p:sp>
      <p:sp>
        <p:nvSpPr>
          <p:cNvPr id="21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0c0c0"/>
                </a:solidFill>
                <a:uFillTx/>
                <a:latin typeface="Arial"/>
                <a:hlinkClick r:id="rId1"/>
              </a:rPr>
              <a:t>http://www.unsalb.org/</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MAs contact information”</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0c0c0"/>
                </a:solidFill>
                <a:uFillTx/>
                <a:latin typeface="Arial"/>
                <a:hlinkClick r:id="rId2"/>
              </a:rPr>
              <a:t>http://www.gsdi.org/SDILink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a:t>
            </a:r>
            <a:endParaRPr b="1" lang="en-US" sz="3600" spc="-1" strike="noStrike">
              <a:solidFill>
                <a:srgbClr val="ffffff"/>
              </a:solidFill>
              <a:latin typeface="Arial"/>
            </a:endParaRPr>
          </a:p>
        </p:txBody>
      </p:sp>
      <p:sp>
        <p:nvSpPr>
          <p:cNvPr id="21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teurs de NSDI  dans votre pa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rtails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stitutions de recherche et O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endeurs de Logicie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a:t>
            </a:r>
            <a:endParaRPr b="1" lang="en-US" sz="3600" spc="-1" strike="noStrike">
              <a:solidFill>
                <a:srgbClr val="ffffff"/>
              </a:solidFill>
              <a:latin typeface="Arial"/>
            </a:endParaRPr>
          </a:p>
        </p:txBody>
      </p:sp>
      <p:sp>
        <p:nvSpPr>
          <p:cNvPr id="2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99"/>
                </a:solidFill>
                <a:latin typeface="Arial"/>
              </a:rPr>
              <a:t>Acteurs de NSDI  dans votre pa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rtails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stitutions de recherche et O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endeurs de Logicie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a:t>
            </a:r>
            <a:endParaRPr b="1" lang="en-US" sz="3600" spc="-1" strike="noStrike">
              <a:solidFill>
                <a:srgbClr val="ffffff"/>
              </a:solidFill>
              <a:latin typeface="Arial"/>
            </a:endParaRPr>
          </a:p>
        </p:txBody>
      </p:sp>
      <p:sp>
        <p:nvSpPr>
          <p:cNvPr id="22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teurs de NSDI  dans votre pa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99"/>
                </a:solidFill>
                <a:latin typeface="Arial"/>
              </a:rPr>
              <a:t>Portails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stitutions de recherche et O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endeurs de Logicie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90480" y="274680"/>
            <a:ext cx="776304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 GeoNetwork OMS</a:t>
            </a:r>
            <a:endParaRPr b="1" lang="en-US" sz="3600" spc="-1" strike="noStrike">
              <a:solidFill>
                <a:srgbClr val="ffffff"/>
              </a:solidFill>
              <a:latin typeface="Arial"/>
            </a:endParaRPr>
          </a:p>
        </p:txBody>
      </p:sp>
      <p:pic>
        <p:nvPicPr>
          <p:cNvPr id="223" name="Content Placeholder 3" descr="FindingSpatialData_WHO_Geonetwork.jpg"/>
          <p:cNvPicPr/>
          <p:nvPr/>
        </p:nvPicPr>
        <p:blipFill>
          <a:blip r:embed="rId1"/>
          <a:stretch/>
        </p:blipFill>
        <p:spPr>
          <a:xfrm>
            <a:off x="530280" y="1216080"/>
            <a:ext cx="8083440" cy="4479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a:t>
            </a:r>
            <a:endParaRPr b="1" lang="en-US" sz="3600" spc="-1" strike="noStrike">
              <a:solidFill>
                <a:srgbClr val="ffffff"/>
              </a:solidFill>
              <a:latin typeface="Arial"/>
            </a:endParaRPr>
          </a:p>
        </p:txBody>
      </p:sp>
      <p:sp>
        <p:nvSpPr>
          <p:cNvPr id="22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teurs de NSDI  dans votre pa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rtails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99"/>
                </a:solidFill>
                <a:latin typeface="Arial"/>
              </a:rPr>
              <a:t>Institutions de recherche et les O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endeurs de Logicie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a:t>
            </a:r>
            <a:endParaRPr b="1" lang="en-US" sz="3600" spc="-1" strike="noStrike">
              <a:solidFill>
                <a:srgbClr val="ffffff"/>
              </a:solidFill>
              <a:latin typeface="Arial"/>
            </a:endParaRPr>
          </a:p>
        </p:txBody>
      </p:sp>
      <p:sp>
        <p:nvSpPr>
          <p:cNvPr id="22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teurs de NSDI  dans votre pa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rtails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stitutions de recherche et O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99"/>
                </a:solidFill>
                <a:latin typeface="Arial"/>
              </a:rPr>
              <a:t>Vendeurs de Logicie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Objectifs spécifiques</a:t>
            </a:r>
            <a:endParaRPr b="1" lang="en-US" sz="3600" spc="-1" strike="noStrike">
              <a:solidFill>
                <a:srgbClr val="ffffff"/>
              </a:solidFill>
              <a:latin typeface="Arial"/>
            </a:endParaRPr>
          </a:p>
        </p:txBody>
      </p:sp>
      <p:sp>
        <p:nvSpPr>
          <p:cNvPr id="138" name="PlaceHolder 2"/>
          <p:cNvSpPr>
            <a:spLocks noGrp="1"/>
          </p:cNvSpPr>
          <p:nvPr>
            <p:ph/>
          </p:nvPr>
        </p:nvSpPr>
        <p:spPr>
          <a:xfrm>
            <a:off x="304560" y="1599840"/>
            <a:ext cx="8381880" cy="44197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 la fin de la séance, les participants devraient comprendre les concepts suivants:</a:t>
            </a:r>
            <a:endParaRPr b="0" lang="en-US" sz="26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l y a plusieurs facteurs a considérer avant l'utilisation de données spatiale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métadonnées sont essentielle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responsables de l'infrastructure nationale des données spatiales (NSDI en anglais) peuvent aider à localiser des données spatiales pour des besoins du S&amp;E.</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s données spatiales sont disponibles d'une variété de sourc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90480" y="274680"/>
            <a:ext cx="776304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  données et cartes ESRI</a:t>
            </a:r>
            <a:endParaRPr b="1" lang="en-US" sz="3600" spc="-1" strike="noStrike">
              <a:solidFill>
                <a:srgbClr val="ffffff"/>
              </a:solidFill>
              <a:latin typeface="Arial"/>
            </a:endParaRPr>
          </a:p>
        </p:txBody>
      </p:sp>
      <p:pic>
        <p:nvPicPr>
          <p:cNvPr id="229" name="Content Placeholder 5" descr="FindingSpatialData_ESRI_DataMaps.jpg"/>
          <p:cNvPicPr/>
          <p:nvPr/>
        </p:nvPicPr>
        <p:blipFill>
          <a:blip r:embed="rId1"/>
          <a:stretch/>
        </p:blipFill>
        <p:spPr>
          <a:xfrm>
            <a:off x="703440" y="1216080"/>
            <a:ext cx="7737120" cy="4479840"/>
          </a:xfrm>
          <a:prstGeom prst="rect">
            <a:avLst/>
          </a:prstGeom>
          <a:ln w="0">
            <a:noFill/>
          </a:ln>
        </p:spPr>
      </p:pic>
      <p:sp>
        <p:nvSpPr>
          <p:cNvPr id="230" name="Oval 6"/>
          <p:cNvSpPr/>
          <p:nvPr/>
        </p:nvSpPr>
        <p:spPr>
          <a:xfrm>
            <a:off x="425520" y="2647800"/>
            <a:ext cx="2017800" cy="2822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0680" y="255240"/>
            <a:ext cx="85410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 ArcGIS en ligne</a:t>
            </a:r>
            <a:endParaRPr b="1" lang="en-US" sz="3600" spc="-1" strike="noStrike">
              <a:solidFill>
                <a:srgbClr val="ffffff"/>
              </a:solidFill>
              <a:latin typeface="Arial"/>
            </a:endParaRPr>
          </a:p>
        </p:txBody>
      </p:sp>
      <p:pic>
        <p:nvPicPr>
          <p:cNvPr id="232" name="Content Placeholder 9" descr="ESRI_ArcGIS_Online.jpg"/>
          <p:cNvPicPr/>
          <p:nvPr/>
        </p:nvPicPr>
        <p:blipFill>
          <a:blip r:embed="rId1"/>
          <a:stretch/>
        </p:blipFill>
        <p:spPr>
          <a:xfrm>
            <a:off x="2022480" y="1216080"/>
            <a:ext cx="5099040" cy="4479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4" descr="HealthMapper_SampleMap.jpg"/>
          <p:cNvPicPr/>
          <p:nvPr/>
        </p:nvPicPr>
        <p:blipFill>
          <a:blip r:embed="rId1"/>
          <a:stretch/>
        </p:blipFill>
        <p:spPr>
          <a:xfrm>
            <a:off x="1285920" y="1216080"/>
            <a:ext cx="6572160" cy="4479840"/>
          </a:xfrm>
          <a:prstGeom prst="rect">
            <a:avLst/>
          </a:prstGeom>
          <a:ln w="0">
            <a:noFill/>
          </a:ln>
        </p:spPr>
      </p:pic>
      <p:sp>
        <p:nvSpPr>
          <p:cNvPr id="234" name="Oval 5"/>
          <p:cNvSpPr/>
          <p:nvPr/>
        </p:nvSpPr>
        <p:spPr>
          <a:xfrm>
            <a:off x="1082520" y="1585800"/>
            <a:ext cx="652680" cy="2762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1"/>
          <p:cNvSpPr>
            <a:spLocks noGrp="1"/>
          </p:cNvSpPr>
          <p:nvPr>
            <p:ph type="title"/>
          </p:nvPr>
        </p:nvSpPr>
        <p:spPr>
          <a:xfrm>
            <a:off x="310680" y="255240"/>
            <a:ext cx="85410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 HealthMapper</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Content Placeholder 7" descr="DevInfo_SampleMap.jpg"/>
          <p:cNvPicPr/>
          <p:nvPr/>
        </p:nvPicPr>
        <p:blipFill>
          <a:blip r:embed="rId1"/>
          <a:stretch/>
        </p:blipFill>
        <p:spPr>
          <a:xfrm>
            <a:off x="1771560" y="1216080"/>
            <a:ext cx="5600880" cy="4479840"/>
          </a:xfrm>
          <a:prstGeom prst="rect">
            <a:avLst/>
          </a:prstGeom>
          <a:ln w="0">
            <a:noFill/>
          </a:ln>
        </p:spPr>
      </p:pic>
      <p:sp>
        <p:nvSpPr>
          <p:cNvPr id="237" name="PlaceHolder 1"/>
          <p:cNvSpPr>
            <a:spLocks noGrp="1"/>
          </p:cNvSpPr>
          <p:nvPr>
            <p:ph type="title"/>
          </p:nvPr>
        </p:nvSpPr>
        <p:spPr>
          <a:xfrm>
            <a:off x="310680" y="255240"/>
            <a:ext cx="85410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 DevInfo</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ées</a:t>
            </a:r>
            <a:endParaRPr b="1" lang="en-US" sz="3600" spc="-1" strike="noStrike">
              <a:solidFill>
                <a:srgbClr val="ffffff"/>
              </a:solidFill>
              <a:latin typeface="Arial"/>
            </a:endParaRPr>
          </a:p>
        </p:txBody>
      </p:sp>
      <p:pic>
        <p:nvPicPr>
          <p:cNvPr id="239" name="Content Placeholder 12" descr="Flickr_OilShale_3815023283_56b191b88a.jpg"/>
          <p:cNvPicPr/>
          <p:nvPr/>
        </p:nvPicPr>
        <p:blipFill>
          <a:blip r:embed="rId1"/>
          <a:stretch/>
        </p:blipFill>
        <p:spPr>
          <a:xfrm>
            <a:off x="3067200" y="1216080"/>
            <a:ext cx="3009600" cy="4479840"/>
          </a:xfrm>
          <a:prstGeom prst="rect">
            <a:avLst/>
          </a:prstGeom>
          <a:ln w="0">
            <a:noFill/>
          </a:ln>
        </p:spPr>
      </p:pic>
      <p:sp>
        <p:nvSpPr>
          <p:cNvPr id="240" name="TextBox 13"/>
          <p:cNvSpPr/>
          <p:nvPr/>
        </p:nvSpPr>
        <p:spPr>
          <a:xfrm>
            <a:off x="401760" y="2286000"/>
            <a:ext cx="2216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ue ciel et ter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s de Discussion</a:t>
            </a:r>
            <a:endParaRPr b="1" lang="en-US" sz="3600" spc="-1" strike="noStrike">
              <a:solidFill>
                <a:srgbClr val="ffffff"/>
              </a:solidFill>
              <a:latin typeface="Arial"/>
            </a:endParaRPr>
          </a:p>
        </p:txBody>
      </p:sp>
      <p:sp>
        <p:nvSpPr>
          <p:cNvPr id="242" name=""/>
          <p:cNvSpPr txBox="1"/>
          <p:nvPr/>
        </p:nvSpPr>
        <p:spPr>
          <a:xfrm>
            <a:off x="420480" y="1206000"/>
            <a:ext cx="8265960" cy="4356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elle est votre stratégie pour trouver les données spatiales dont vous avez besoin  pour le S/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st-ce que quelqu'un a travaillé avec l’organisme national de cartographie ou l’agence ou le comité responsable du développement de l'infrastructure de données spatiales dans son pays? Comment était l’expéri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600" spc="-1" strike="noStrike">
              <a:solidFill>
                <a:srgbClr val="ffffff"/>
              </a:solidFill>
              <a:latin typeface="Arial"/>
            </a:endParaRPr>
          </a:p>
        </p:txBody>
      </p:sp>
      <p:sp>
        <p:nvSpPr>
          <p:cNvPr id="244" name=""/>
          <p:cNvSpPr txBox="1"/>
          <p:nvPr/>
        </p:nvSpPr>
        <p:spPr>
          <a:xfrm>
            <a:off x="923760" y="1599840"/>
            <a:ext cx="7763040" cy="3962520"/>
          </a:xfrm>
          <a:prstGeom prst="rect">
            <a:avLst/>
          </a:prstGeom>
          <a:noFill/>
          <a:ln w="0">
            <a:noFill/>
          </a:ln>
        </p:spPr>
        <p:txBody>
          <a:bodyPr anchor="t">
            <a:normAutofit/>
          </a:bodyPr>
          <a:p>
            <a:pPr marL="343080" indent="-34308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ERCI</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Plan de la séance</a:t>
            </a:r>
            <a:endParaRPr b="1" lang="en-US" sz="3600" spc="-1" strike="noStrike">
              <a:solidFill>
                <a:srgbClr val="ffffff"/>
              </a:solidFill>
              <a:latin typeface="Arial"/>
            </a:endParaRPr>
          </a:p>
        </p:txBody>
      </p:sp>
      <p:sp>
        <p:nvSpPr>
          <p:cNvPr id="140"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sidérations de données spatial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éta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frastructure nationale de données spatial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ources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ints de discuss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90480" y="274680"/>
            <a:ext cx="776304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1" lang="en-US" sz="3600" spc="-1" strike="noStrike">
              <a:solidFill>
                <a:srgbClr val="ffffff"/>
              </a:solidFill>
              <a:latin typeface="Arial"/>
            </a:endParaRPr>
          </a:p>
        </p:txBody>
      </p:sp>
      <p:sp>
        <p:nvSpPr>
          <p:cNvPr id="142"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44"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1"/>
          <p:cNvSpPr/>
          <p:nvPr/>
        </p:nvSpPr>
        <p:spPr>
          <a:xfrm>
            <a:off x="690480" y="274680"/>
            <a:ext cx="7763040" cy="85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iderations des données spatiales</a:t>
            </a:r>
            <a:endParaRPr b="0" lang="en-US" sz="3600" spc="-1" strike="noStrike">
              <a:solidFill>
                <a:srgbClr val="ffffff"/>
              </a:solidFill>
              <a:latin typeface="Arial"/>
            </a:endParaRPr>
          </a:p>
        </p:txBody>
      </p:sp>
      <p:sp>
        <p:nvSpPr>
          <p:cNvPr id="146" name="Content Placeholder 4"/>
          <p:cNvSpPr/>
          <p:nvPr/>
        </p:nvSpPr>
        <p:spPr>
          <a:xfrm>
            <a:off x="923760" y="1316160"/>
            <a:ext cx="7763040" cy="438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ttributs clés </a:t>
            </a:r>
            <a:r>
              <a:rPr b="0" lang="en-US" sz="2800" spc="-1" strike="noStrike">
                <a:solidFill>
                  <a:srgbClr val="ffffff"/>
                </a:solidFill>
                <a:latin typeface="Arial"/>
              </a:rPr>
              <a:t>à</a:t>
            </a:r>
            <a:r>
              <a:rPr b="0" lang="fr-FR" sz="2600" spc="-1" strike="noStrike">
                <a:solidFill>
                  <a:srgbClr val="ffffff"/>
                </a:solidFill>
                <a:latin typeface="Arial"/>
              </a:rPr>
              <a:t> considérer :</a:t>
            </a:r>
            <a:endParaRPr b="0" lang="en-US" sz="26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Actualité</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coordonnées et référentiel géodésiqu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ctitud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helle</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at de fichier</a:t>
            </a:r>
            <a:endParaRPr b="0" lang="en-US" sz="2400" spc="-1" strike="noStrike">
              <a:solidFill>
                <a:srgbClr val="ffffff"/>
              </a:solidFill>
              <a:latin typeface="Arial"/>
            </a:endParaRPr>
          </a:p>
          <a:p>
            <a:pPr lvl="1" marL="800280" indent="-3430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adonné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9048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ité</a:t>
            </a:r>
            <a:endParaRPr b="1" lang="en-US" sz="3600" spc="-1" strike="noStrike">
              <a:solidFill>
                <a:srgbClr val="ffffff"/>
              </a:solidFill>
              <a:latin typeface="Arial"/>
            </a:endParaRPr>
          </a:p>
        </p:txBody>
      </p:sp>
      <p:sp>
        <p:nvSpPr>
          <p:cNvPr id="148" name="Content Placeholder 4"/>
          <p:cNvSpPr/>
          <p:nvPr/>
        </p:nvSpPr>
        <p:spPr>
          <a:xfrm>
            <a:off x="923760" y="1600200"/>
            <a:ext cx="776304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Picture 6" descr="SpatialDataCurrency_SauPauloSlum"/>
          <p:cNvPicPr/>
          <p:nvPr/>
        </p:nvPicPr>
        <p:blipFill>
          <a:blip r:embed="rId1"/>
          <a:stretch/>
        </p:blipFill>
        <p:spPr>
          <a:xfrm>
            <a:off x="1600200" y="1214280"/>
            <a:ext cx="5942160" cy="4114800"/>
          </a:xfrm>
          <a:prstGeom prst="rect">
            <a:avLst/>
          </a:prstGeom>
          <a:ln w="0">
            <a:noFill/>
          </a:ln>
        </p:spPr>
      </p:pic>
      <p:sp>
        <p:nvSpPr>
          <p:cNvPr id="150" name="Text Box 5"/>
          <p:cNvSpPr/>
          <p:nvPr/>
        </p:nvSpPr>
        <p:spPr>
          <a:xfrm>
            <a:off x="1468440" y="5313240"/>
            <a:ext cx="620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ry Source: QuickBird from Digital Globe, 31 Mar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5:32:12Z</dcterms:created>
  <dc:creator>James Stewart, MEASURE Evaluation</dc:creator>
  <dc:description/>
  <dc:language>en-US</dc:language>
  <cp:lastModifiedBy>CPC</cp:lastModifiedBy>
  <dcterms:modified xsi:type="dcterms:W3CDTF">2011-02-15T13:19:56Z</dcterms:modified>
  <cp:revision>480</cp:revision>
  <dc:subject/>
  <dc:title>Trouver Données Spatiales</dc:title>
</cp:coreProperties>
</file>