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85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2960" y="-360"/>
            <a:ext cx="2973600" cy="485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001520" y="727200"/>
            <a:ext cx="48560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223200"/>
            <a:ext cx="2973240" cy="486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612DA-1073-43CE-8350-9828B297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DEC40-100A-413B-B35F-8364B2188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374E2-0DF0-4135-A52A-11C0E448C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D74CA-6A5E-4A4D-AFDB-E462845F5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2C30C-5A45-4DB3-A955-EAF7776E5A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A23EE-0E41-4D7E-84A3-D068528CEC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E1357-C3FD-4281-8845-8C1CE9C45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8C65F-C475-4017-9205-7EB975A47F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4CBD5-C628-4EEC-BC88-AE6B342AC2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03E08-8256-4161-A55E-708A4E9DD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9F980-F101-4847-8353-603B5E8220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D71C0-596A-44AA-8B7F-D1378E348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8C409-5546-4DDF-85DD-8F43F003AD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A0229-0215-4DA9-B5B6-BFA0A6D2C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9522F-2EF2-471E-A2E6-B2FF1E280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1F1F0-4954-4826-B77E-D995D3C4A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6F96F-8B15-41C2-9864-97C0820F6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BC58B-1A6D-47B1-B728-7248C2A24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D6163-0D29-4193-8BA4-D73274A646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F4D4B-DE55-4C12-81F1-9F2379EAB3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0508F-CAA3-40D2-A7F1-9BB732FEB3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94108-9B60-4C2A-9BF2-0769D17DB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6C255-22CA-4E43-9AA8-D28E84495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24785-D337-42B0-A925-16D28DEBB7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9D466-6917-4A6C-A9A3-B119200112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6FB87-37E7-4D39-A62C-29F80B7D1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8C89F-E22B-469A-929E-0B00784B28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A7439-3B47-47CA-B0A3-9486FBC7D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AD730-1339-47F7-8CE5-5CE710D12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A7B95-0D35-479E-A321-9E9C9BD82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D3303-910A-48C7-8B19-77DB5D2CF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EA75D-5C9B-43EF-B9F9-25544CF1FC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98163-D033-4ABF-B56F-AABD538FC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A8138-4EC3-47FA-B96C-80BD1C306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34A72-5C41-4E47-B0BB-4CB6D7D0BC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3DE8B-DADE-4A69-9238-A1196BCDB1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7D4D1-8361-4D02-91BD-674EE73EF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56159-844B-4E74-9057-F40D3221FD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148DA-17E4-4951-B66D-CDF685E7CC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71A24-0115-4C86-9333-68B8E4A37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15DBF-5701-4A92-B98D-AD76598D0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5DA1E-1C16-407A-A404-D22AFCC2E7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9F722-1C6B-4189-8415-1DA4F153A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64B50-7709-4A82-8561-558166F823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5643B-BFD6-4CA2-A70A-4F170F87CD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067E4-D628-49AE-8971-1874850D11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0D699-7EBE-4962-8B25-FDBC9449ED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332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ur perception et interaction avec les 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01880" y="72720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3400"/>
            <a:ext cx="5483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4E8BA-60D5-407E-9638-8E701E9352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2960" y="9223200"/>
            <a:ext cx="2973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0D333-A9B5-4DBF-8230-EA7CE74F4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0332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160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ur perception et interaction avec les 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3" descr="Vertical_RGB_600"/>
          <p:cNvPicPr/>
          <p:nvPr/>
        </p:nvPicPr>
        <p:blipFill>
          <a:blip r:embed="rId2"/>
          <a:stretch/>
        </p:blipFill>
        <p:spPr>
          <a:xfrm>
            <a:off x="372420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logo_2004"/>
          <p:cNvPicPr/>
          <p:nvPr/>
        </p:nvPicPr>
        <p:blipFill>
          <a:blip r:embed="rId3"/>
          <a:stretch/>
        </p:blipFill>
        <p:spPr>
          <a:xfrm>
            <a:off x="5934240" y="501012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"/>
          <p:cNvPicPr/>
          <p:nvPr/>
        </p:nvPicPr>
        <p:blipFill>
          <a:blip r:embed="rId4"/>
          <a:stretch/>
        </p:blipFill>
        <p:spPr>
          <a:xfrm>
            <a:off x="1676520" y="50212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measuredh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ids.ac.uk/ids/part/pubs/methodspub.html" TargetMode="External"/><Relationship Id="rId2" Type="http://schemas.openxmlformats.org/officeDocument/2006/relationships/hyperlink" Target="http://www.fhi.org/" TargetMode="External"/><Relationship Id="rId3" Type="http://schemas.openxmlformats.org/officeDocument/2006/relationships/hyperlink" Target="http://www.ernwaca.org/panaf/RQ/fr/index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000"/>
                </a:solidFill>
                <a:latin typeface="Arial"/>
              </a:rPr>
              <a:t>Les Méthodes qualitatives de Suivi /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 Evaluation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219320" y="2971800"/>
            <a:ext cx="6705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ivi et Évaluation des programmes VIH/Sida- Séminaire rég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07-18 Février 201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ESAG-  Dakar, Sénéga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d2d2d2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éthode qualitative (1/2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ème non famil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cherche exploratoire: concepts et variables pertinents  incon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plication en profondeur: rattacher/rapporter  un comportement  à  un contexte plus l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d2d2d2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éthode qualitative (2/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herche d’un signification/ d’un sens plutôt que la fréq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lexibilité dans l’approche plus nécessaire pour découvrir l’inattendu ou explorer en profondeur  thèmes particul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tude en profondeur et détaillée des thèmes, situations ou évènements particul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éthode quantitative (1/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ème clairement défini et fami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blèmes de quantification  mineures ou déjà rés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s de nécessité de rapporter/rattacher des résultats à un contexte social/culturel plus large ou si contexte déjà suffisamment connu/comp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éthode quantitative (2/2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scription numérique détaillée d’un échantillon représentatif req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productivité / répétition de la mesure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tension des résultats et comparaison entre populations souhaité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elques éléments de comparaison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estions de recherch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828440"/>
            <a:ext cx="426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 ? pourquoi (explication)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èmes  pas famili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cepts et variables pertinents peu connus; définitions pas cl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837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4720" y="1828440"/>
            <a:ext cx="4498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spcAft>
                <a:spcPts val="675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Arial"/>
              </a:rPr>
              <a:t>description? De Combien 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Contexte et enjeux bien conn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Variables facilement identifiables et quantifia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bjectif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Qualita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plication en profondeur, besoin de conceptua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cherche de la signification, du s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ploratoire, natural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énérer des hypothè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structiv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6094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Quantita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soin de quantifier les eff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soin de généraliser les résultats, de comparer entre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bservationnelles et/ou Expérimen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ester des hypothè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bjectiviste, positiv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é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Quelques éléments de comparaisons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          utilisation des méthod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b0f0"/>
                </a:solidFill>
                <a:latin typeface="Arial"/>
              </a:rPr>
              <a:t>Qualita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057040"/>
            <a:ext cx="404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chantillonnage théori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 déterminé par échantillonnage et effet de «saturation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1143000"/>
            <a:ext cx="404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b0f0"/>
                </a:solidFill>
                <a:latin typeface="Arial"/>
              </a:rPr>
              <a:t>Quantita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7960" y="2286000"/>
            <a:ext cx="40417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chantillonnage au has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 préétab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Quelques éléments de comparaisons: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          Type de produits et résulta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f0"/>
                </a:solidFill>
                <a:latin typeface="Arial"/>
              </a:rPr>
              <a:t>Qualita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lexibilité nécess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é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exte élément 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s besoin de signification statis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f0"/>
                </a:solidFill>
                <a:latin typeface="Arial"/>
              </a:rPr>
              <a:t>Quantita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esoin de généraliser les résultats, de comparer entre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ouci de reproductibilité, validité, signifiance statis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 du contex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201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Qui fait l’objet de la recherche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 qualitative 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2001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opulation générale, populations spécifiques, indivi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Soins : population desservie par un institution, série d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Les prescripteurs et/ou les bénéficiaires et/ou le système</a:t>
            </a:r>
            <a:br>
              <a:rPr sz="3200"/>
            </a:b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ensemble des méthodes qualitatives et les techniques d’investigation constituent la recherche qualitative, applicable dans la plupart des disciplines des sciences soc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méthodes qualitatives  ..   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qui cherchent à décrire et analyser la culture et le comportement des êtres humains et les groupes qu’ils forment du point de vue de ceux qui font l’objet de l’é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..   insistent sur l’importance de fournir une analyse compréhensive et globale des contextes sociaux…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ahoma"/>
                <a:ea typeface="Tahoma"/>
              </a:rPr>
              <a:t>Hudelson, OMS 1994 Pope and Mays BMJ 9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533520" y="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00"/>
                </a:solidFill>
                <a:latin typeface="Arial"/>
              </a:rPr>
              <a:t>Techniques pour la collecte des données en recherche qualit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39152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cach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32"/>
          <p:cNvGrpSpPr/>
          <p:nvPr/>
        </p:nvGrpSpPr>
        <p:grpSpPr>
          <a:xfrm>
            <a:off x="0" y="1219320"/>
            <a:ext cx="9143640" cy="5088240"/>
            <a:chOff x="0" y="1219320"/>
            <a:chExt cx="9143640" cy="5088240"/>
          </a:xfrm>
        </p:grpSpPr>
        <p:sp>
          <p:nvSpPr>
            <p:cNvPr id="138" name="Text Box 3"/>
            <p:cNvSpPr/>
            <p:nvPr/>
          </p:nvSpPr>
          <p:spPr>
            <a:xfrm>
              <a:off x="0" y="241632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Entretie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4"/>
            <p:cNvSpPr/>
            <p:nvPr/>
          </p:nvSpPr>
          <p:spPr>
            <a:xfrm>
              <a:off x="0" y="4723920"/>
              <a:ext cx="207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Observ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>
              <a:off x="5975280" y="1219320"/>
              <a:ext cx="26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semi-structur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054840" y="1980720"/>
              <a:ext cx="270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en profonde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2634480" y="2496240"/>
              <a:ext cx="29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en groupe </a:t>
              </a:r>
              <a:br>
                <a:rPr sz="2400"/>
              </a:b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(semi-structurés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555280" y="1698120"/>
              <a:ext cx="19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individue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2634480" y="401220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direc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2437560" y="5608440"/>
              <a:ext cx="15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indirec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4952880" y="3656520"/>
              <a:ext cx="197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participan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5180040" y="4314960"/>
              <a:ext cx="26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non-participan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3"/>
            <p:cNvSpPr/>
            <p:nvPr/>
          </p:nvSpPr>
          <p:spPr>
            <a:xfrm>
              <a:off x="7327800" y="312480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ouver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180040" y="5847840"/>
              <a:ext cx="23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documentai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5028840" y="52092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r>
                <a:rPr b="0" lang="fr-CH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conversationnel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 flipV="1">
              <a:off x="1710000" y="1967040"/>
              <a:ext cx="874800" cy="439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1686240" y="2715480"/>
              <a:ext cx="862920" cy="27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20"/>
            <p:cNvSpPr/>
            <p:nvPr/>
          </p:nvSpPr>
          <p:spPr>
            <a:xfrm>
              <a:off x="4225680" y="2017440"/>
              <a:ext cx="1829160" cy="23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21"/>
            <p:cNvSpPr/>
            <p:nvPr/>
          </p:nvSpPr>
          <p:spPr>
            <a:xfrm flipV="1">
              <a:off x="1998360" y="4331520"/>
              <a:ext cx="636120" cy="47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22"/>
            <p:cNvSpPr/>
            <p:nvPr/>
          </p:nvSpPr>
          <p:spPr>
            <a:xfrm>
              <a:off x="1998360" y="4969800"/>
              <a:ext cx="556560" cy="638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V="1">
              <a:off x="3827520" y="3932280"/>
              <a:ext cx="1113480" cy="23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3786840" y="4308840"/>
              <a:ext cx="1185480" cy="1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30"/>
            <p:cNvSpPr/>
            <p:nvPr/>
          </p:nvSpPr>
          <p:spPr>
            <a:xfrm flipV="1">
              <a:off x="3907080" y="5448240"/>
              <a:ext cx="1193040" cy="3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3925800" y="5887440"/>
              <a:ext cx="1235520" cy="15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 flipV="1">
              <a:off x="4225680" y="1458720"/>
              <a:ext cx="1749600" cy="39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 flipV="1">
              <a:off x="6856920" y="3504600"/>
              <a:ext cx="556560" cy="23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>
              <a:off x="6858000" y="3836520"/>
              <a:ext cx="574200" cy="191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ZoneTexte 35"/>
          <p:cNvSpPr/>
          <p:nvPr/>
        </p:nvSpPr>
        <p:spPr>
          <a:xfrm>
            <a:off x="2057400" y="6248520"/>
            <a:ext cx="7086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UM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nstitut universitaire de médecine sociale et préventive, Lausa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éthodes qualitatives de </a:t>
            </a:r>
            <a:br>
              <a:rPr sz="40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uivi &amp; Évalu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terview approfondi  / Entretien individ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roupe de discussion  (Focus grou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ven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ntretien de clients à la sortie de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lient (e) mystérie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amen des documents (ex: rap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L’entretien individu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9144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d2d2d2"/>
                </a:solidFill>
                <a:latin typeface="Arial"/>
              </a:rPr>
              <a:t>Défin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océdure standardis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céder au cadre conceptuel de l’interview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gré de structure souhaité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7320" indent="-365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si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7320" indent="-365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rille d’entret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7320" indent="-36540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stions ouvertes  +++++/ questions fermée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L’entretien individuel 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56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stions ouvertes, neutres, sensibles, cl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ypes de questions: sociodémographiques, comportementales et  sur l’expériences, les opinions et les croy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nregistrement  recomman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stions de relance, utilisation d’images, feed-back, répéti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and utiliser l’interview approfondi 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4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plorer un sujet complexe, cible bien inform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jet très délicat (inti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nquêtés dispersés géographiqu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isque d’influence des p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Groupe de discussion </a:t>
            </a:r>
            <a:br>
              <a:rPr sz="40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focus group(1/6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aille du groupe : 4 à 8 person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ères de sélection : critères prédétermin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Homogénéité à l ’intérieur du grou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ssibilité de constituer les groupes par  type de participants </a:t>
            </a:r>
            <a:r>
              <a:rPr b="0" lang="fr-FR" sz="3200" spc="-1" strike="noStrike">
                <a:solidFill>
                  <a:srgbClr val="00b0f0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00b0f0"/>
                </a:solidFill>
                <a:latin typeface="Arial"/>
              </a:rPr>
              <a:t>différentes caractéristiques, M/F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urée du groupe de discuss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Jusqu‘ au moment où vous n’obtenez plus de nouvelles informations </a:t>
            </a:r>
            <a:r>
              <a:rPr b="0" lang="fr-FR" sz="3200" spc="-1" strike="noStrike">
                <a:solidFill>
                  <a:srgbClr val="00b0f0"/>
                </a:solidFill>
                <a:latin typeface="Arial"/>
              </a:rPr>
              <a:t>(satu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n moyenne 1h à 1h 30 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Quand utiliser le groupe de discussion ? (2/6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ité de base est le groupe (par critè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plorer les attitudes, perceptions, impr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valuer les concepts d ’un message à élaborer, pré-tester des supports de C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dentifier et définir des problè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43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Organisation de la discussion du Focus group (3/6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1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hèmes à discuter: décidés à l’a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guide comporte une liste de questions ouver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iscussions libres entre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registrement si possible avec magnéto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cription sur papier/ordinat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écessité d’un modérateur et  d’un rapporteur si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nalyse du Focus group (4/6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5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Les données qualitatives doivent être analysées de façon systématiqu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coder les tex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par ordinateur, ou avec des stylos en coul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en utilisant des petits codes pour les idées différ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analyser groupe par groupe (pas par person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I" sz="2800" spc="-1" strike="noStrike">
                <a:solidFill>
                  <a:srgbClr val="ffffff"/>
                </a:solidFill>
                <a:latin typeface="Arial"/>
              </a:rPr>
              <a:t>trianguler les sources différ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nalyse du contenu du Focus group (5/6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éécouter les cass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egrouper les résultats par principaux domaines d’intérê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dentifier les différentes positions face à chaque sujet 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Faire la somme de chacune des positions et évaluer leur force ou degré  d’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eprendre, textuellement, les meilleures remarques des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01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000"/>
                </a:solidFill>
                <a:latin typeface="Arial"/>
              </a:rPr>
              <a:t>Objectif génér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objectif général du module </a:t>
            </a:r>
            <a:r>
              <a:rPr b="0" lang="fr-FR" sz="3200" spc="-1" strike="noStrike">
                <a:solidFill>
                  <a:srgbClr val="d2d2d2"/>
                </a:solidFill>
                <a:latin typeface="Arial"/>
              </a:rPr>
              <a:t>«Méthodes qualitatives de Suivi e</a:t>
            </a:r>
            <a:r>
              <a:rPr b="0" lang="es-ES" sz="3200" spc="-1" strike="noStrike">
                <a:solidFill>
                  <a:srgbClr val="d2d2d2"/>
                </a:solidFill>
                <a:latin typeface="Arial"/>
              </a:rPr>
              <a:t>t Evaluation</a:t>
            </a:r>
            <a:r>
              <a:rPr b="0" lang="fr-FR" sz="3200" spc="-1" strike="noStrike">
                <a:solidFill>
                  <a:srgbClr val="d2d2d2"/>
                </a:solidFill>
                <a:latin typeface="Arial"/>
              </a:rPr>
              <a:t>»</a:t>
            </a:r>
            <a:r>
              <a:rPr b="0" lang="fr-FR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st de faire acquérir aux participants les compétences pour utiliser les méthodes qualitatives pour le suivi et l’é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ynthèse du Focus group(6/6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elire les textes transc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dentifier les ‘points constants’ qui ressortent dans le cadre d’un su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Amplifier et éclaircir les points constants à partir d’autres résultats (interpré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dentifier les différences et divergences trouvées dans chaque doma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Faire la synthèse de tous les thèmes dans le cadre du sujet tra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Entretiens à la sortie des services (1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s’agit d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même personne (si possible) qui a particip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l’observation de l’interaction patient –presta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ser des questions en rapport avec l’observation: composantes  consultation et  qualité des s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 noter les caractéristiques démograph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est fait à l’extérieur du bâtiment  de s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Entretiens à la sortie des services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surer le degré de satisfaction du client 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aminant à quel point les comportements/ attitudes des prestataires, ainsi que les services offerts par les prestataires répondent aux attentes du cli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Permettant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a) Identifiant les domaines où les améliorations  sont nécessai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b) Identifiant les opportunités d’améliorer la qualité des soins selon les attentes du cli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Client mystérieux (1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Un enquêteur se déguise en client  auprès d’un presta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l se présente aux  prestataires  avec des symptômes/besoins préc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Après, Il note ses observations sur  une check-list  portant  sur son interaction avec le prestat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Client mystérieux 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Sert à vérifier les données des observations et entretiens avec les cl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eut dépister des problèmes subt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Arial"/>
              </a:rPr>
              <a:t>Mai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ose des problèmes éth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eut gêner les relations entre les centres de santé et le niveau 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NB: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le prestataire doit être informes de la possibilité de recevoir sur une période donnée un client mystérieu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Autres méthodes mixt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76520" y="17524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Rap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nventai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Observ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Combiner diverses méthodes qualitatives, quantita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Fréquemment une ou plusieurs méthodes qualitatives sont combinées afin d’examiner différents aspects d’un problè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Exemple: pour une étude sur le Dispositif Intra Utérin au Maroc utilisation des 4 méthodes qualitatives et une enquête quantitative pour les prestataires de servi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Outils de la méthode qualitati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uide d’entretien à la sort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uide Entretien avec prestata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uide d’interview approfondi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uide d’entretien dirigé de groupe (Focus group discu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rille d’observation pour Cliente mystè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rille d’Inventa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rille d’observ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Arial"/>
              </a:rPr>
              <a:t>Grille d’examen des documents (ex: rapport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tructure du rappo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880" y="9903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umé analy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appel du proj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éthod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im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ult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clusions et recomma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nexes (guide de sujets, matériel d’appu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Cas de l ’étude sur la sous utilisation du DIU au Maroc(1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Observation directe: compétence technique des prestataires pour l’insertion du DI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Client mystérieux : interaction client – prestatai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Entretien dirigé de Groupe (Focus Group Discussion) N = 1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- Utilisatrice de DIU (demander : pourquoi le DIU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- Utilisatrice de pilule (demander pourquoi pas le DIU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000"/>
                </a:solidFill>
                <a:latin typeface="Arial"/>
              </a:rPr>
              <a:t>Objectifs spécifiques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la fin de ce module, les participants doivent être capables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finir la méthode qual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terminer à quel moment utiliser les méthodes quali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crire les méthodes qualitatives et quelques outi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Cas de l ’étude de la sous utilisation du DIU au Maroc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nterviews approfondies: “perdues de vue” (ex-utilisatrices de DI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Également QUANTITATIVE: enquête sur les prestataires d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00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Récapitulatif (1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Méthodes  qualitativ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- constituent une méthode de recherche  en S&amp; 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Utilisent des techniques bien codifiées afin de répondre à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différentes questions de recherch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des objectifs de program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Expliquer / interpréter les résultats d’une enquête quantit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Affiner / développer des hypothèse de recherche à te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Récapitulatif 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Expliquer / interpréter les résultats d’une enquête quanti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ffiner / développer des hypothèse de recherche à te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uprè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’individus/ d’une population (spécifique ou génér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’un système, une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e prestataires ou de bénéficiaires de so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5857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onclusion(1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La méthode qualitativ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Complémentaire aux méthodes d’évaluations quanti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Explore, structure et valorise les perceptions et expériences individuelles et coll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Se focalise sur la situation ré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0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onclusion 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La méthode qualitativ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S’effectue avec l’appui de différentes méthodes de collectes de donné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A diverses utilité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5320" indent="-11736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Exploration des domaines peu con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5320" indent="-11736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Interprétation des observations quanti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Travaux de group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998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Instru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 partir de votre plan de suivi et évaluation en cours d’élaboration, identifier des questions de recherche qualit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3760" y="1828440"/>
            <a:ext cx="77630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00"/>
                </a:solidFill>
                <a:latin typeface="Arial"/>
              </a:rPr>
              <a:t>M E R C I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63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Webographie</a:t>
            </a:r>
            <a:br>
              <a:rPr sz="40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MS PGothic"/>
              </a:rPr>
              <a:t>Site Web: </a:t>
            </a:r>
            <a:r>
              <a:rPr b="0" lang="fr-FR" sz="2800" spc="-1" strike="noStrike" u="sng">
                <a:solidFill>
                  <a:srgbClr val="17bbfd"/>
                </a:solidFill>
                <a:uFillTx/>
                <a:latin typeface="Arial"/>
                <a:ea typeface="MS PGothic"/>
                <a:hlinkClick r:id="rId1"/>
              </a:rPr>
              <a:t>www.measuredh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Méthodes Qualitatives Wikipédia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Arial"/>
              </a:rPr>
              <a:t>http://fr.wikipédia.org/w/index?title=M%C3%A9thodes_qualita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Chantal Royer, Colette Baribeau. Recherche qualitative et production de savoirs 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http : //www.recherche. qualitative.qc.ca/revue.htm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Recherche Qualitatives. 74è Congrès de l’ACFAS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http : //www.recherche-qualitative.qc.ca/ACFAS06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La recherche qualitative 2002, Volume 22, Numéro2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Network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http://www.reproline.jhu.edu/french/4morerh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63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</a:t>
            </a:r>
            <a:br>
              <a:rPr sz="3200"/>
            </a:br>
            <a:br>
              <a:rPr sz="3200"/>
            </a:b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Webographie</a:t>
            </a:r>
            <a:br>
              <a:rPr sz="4000"/>
            </a:br>
            <a:r>
              <a:rPr b="1" lang="fr-FR" sz="3200" spc="-1" strike="noStrike">
                <a:solidFill>
                  <a:srgbClr val="d2d2d2"/>
                </a:solidFill>
                <a:latin typeface="Arial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http://www.ids.ac.uk/ids/part/pubs/methodspub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ttp:// </a:t>
            </a:r>
            <a:r>
              <a:rPr b="0" lang="en-GB" sz="2600" spc="-1" strike="noStrike" u="sng">
                <a:solidFill>
                  <a:srgbClr val="17bbfd"/>
                </a:solidFill>
                <a:uFillTx/>
                <a:latin typeface="Arial"/>
                <a:hlinkClick r:id="rId2"/>
              </a:rPr>
              <a:t>www.fhi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Les sciences sociales dans le monde. Les méthodes qualitatives</a:t>
            </a: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r-FR" sz="2600" spc="-1" strike="noStrike" u="sng">
                <a:solidFill>
                  <a:srgbClr val="ffffff"/>
                </a:solidFill>
                <a:uFillTx/>
                <a:latin typeface="Arial"/>
              </a:rPr>
              <a:t>http://books.googole.sn/books ?id=-ao-V4sJKa0C&amp;pg=RA1-PT122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2600" spc="-1" strike="noStrike">
                <a:solidFill>
                  <a:srgbClr val="ffffff"/>
                </a:solidFill>
                <a:latin typeface="Arial"/>
              </a:rPr>
              <a:t>Mamadou Kani Konaté, Abdoulaye Sidibé. Extraits de guides pour la Recherche Qualitative. Centre d’Appui à la Recherche et à la Formation, Bamako-Mali. ROCARE. </a:t>
            </a:r>
            <a:r>
              <a:rPr b="0" i="1" lang="fr-FR" sz="26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http://www.ernwaca.org/panaf/RQ/fr/index.ph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3760" y="304920"/>
            <a:ext cx="7229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 de la Sé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éfinition de la recherche qualitative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lace de la recherche qualitative  dans le suivi et évalua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éthodes et Outils de la recherche qual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hoix d’une approche qualitative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3400" y="274320"/>
            <a:ext cx="715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éfinition (1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rme de recherche utilisant des techniques spécialisées pour obtenir des réponses approfondies sur ce que les individus pensent et resse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éfinition (2/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600200"/>
            <a:ext cx="8296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le explo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étude des croy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s comportements de la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le est plus interprétative que descrip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Une approche complémentaire aux méthodes quantita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pond à différentes questions de recherche (comment, pourquo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différents objectifs (comprend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tilise différentes méth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urnit différents types de résultats / produits destinés à différentes util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17b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3520" y="20574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Place de la recherche qualitative  dans le suivi et évaluatio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4:22:53Z</dcterms:created>
  <dc:creator>CPC</dc:creator>
  <dc:description/>
  <dc:language>en-US</dc:language>
  <cp:lastModifiedBy>user</cp:lastModifiedBy>
  <dcterms:modified xsi:type="dcterms:W3CDTF">2011-02-18T11:50:34Z</dcterms:modified>
  <cp:revision>583</cp:revision>
  <dc:subject/>
  <dc:title>Slide 1</dc:title>
</cp:coreProperties>
</file>