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852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328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2376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852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328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23760" y="274320"/>
            <a:ext cx="7763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4852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328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2376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4852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328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23760" y="274320"/>
            <a:ext cx="7763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1270080" y="6477120"/>
            <a:ext cx="756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8" descr="Vertical_RGB_600"/>
          <p:cNvPicPr/>
          <p:nvPr/>
        </p:nvPicPr>
        <p:blipFill>
          <a:blip r:embed="rId2"/>
          <a:stretch/>
        </p:blipFill>
        <p:spPr>
          <a:xfrm>
            <a:off x="6580080" y="5829480"/>
            <a:ext cx="1116000" cy="9144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9" descr="logo_2004"/>
          <p:cNvPicPr/>
          <p:nvPr/>
        </p:nvPicPr>
        <p:blipFill>
          <a:blip r:embed="rId3"/>
          <a:stretch/>
        </p:blipFill>
        <p:spPr>
          <a:xfrm>
            <a:off x="7950240" y="5829480"/>
            <a:ext cx="965160" cy="914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1"/>
          <p:cNvSpPr/>
          <p:nvPr/>
        </p:nvSpPr>
        <p:spPr>
          <a:xfrm>
            <a:off x="380880" y="5791320"/>
            <a:ext cx="4492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5a58"/>
                </a:solidFill>
                <a:latin typeface="Arial"/>
              </a:rPr>
              <a:t>Séminaire sur le «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5a58"/>
                </a:solidFill>
                <a:latin typeface="Arial"/>
              </a:rPr>
              <a:t>Suivi e</a:t>
            </a:r>
            <a:r>
              <a:rPr b="1" lang="es-ES" sz="1400" spc="-1" strike="noStrike">
                <a:solidFill>
                  <a:srgbClr val="005a58"/>
                </a:solidFill>
                <a:latin typeface="Arial"/>
              </a:rPr>
              <a:t>t Evaluation des programmes  VIH/sid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5a58"/>
                </a:solidFill>
                <a:latin typeface="Arial"/>
              </a:rPr>
              <a:t>CESAG-  Dakar, Sénégal : 07 au 18 février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15" descr=""/>
          <p:cNvPicPr/>
          <p:nvPr/>
        </p:nvPicPr>
        <p:blipFill>
          <a:blip r:embed="rId4"/>
          <a:stretch/>
        </p:blipFill>
        <p:spPr>
          <a:xfrm>
            <a:off x="5257800" y="5811840"/>
            <a:ext cx="1066680" cy="96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3" descr="Vertical_RGB_600"/>
          <p:cNvPicPr/>
          <p:nvPr/>
        </p:nvPicPr>
        <p:blipFill>
          <a:blip r:embed="rId2"/>
          <a:stretch/>
        </p:blipFill>
        <p:spPr>
          <a:xfrm>
            <a:off x="3724200" y="5010120"/>
            <a:ext cx="167328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logo_2004"/>
          <p:cNvPicPr/>
          <p:nvPr/>
        </p:nvPicPr>
        <p:blipFill>
          <a:blip r:embed="rId3"/>
          <a:stretch/>
        </p:blipFill>
        <p:spPr>
          <a:xfrm>
            <a:off x="5934240" y="5010120"/>
            <a:ext cx="1447560" cy="1371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4"/>
          <a:stretch/>
        </p:blipFill>
        <p:spPr>
          <a:xfrm>
            <a:off x="1676520" y="5021280"/>
            <a:ext cx="1600200" cy="1455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1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Programm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076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éminaire  Régional sur le « Suivi et l’Evaluation des programmes de VIH/s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7 - 18 février 2011, CESAG, Dakar,Sénég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ontenu/Déroulement(5/1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ffff"/>
                </a:solidFill>
                <a:uFillTx/>
                <a:latin typeface="Arial"/>
              </a:rPr>
              <a:t>Première semaine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(5/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&amp;E des programmes CD et S&amp; E de la PTME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urveillance dans les programmes VIH/sida : surveillance de 2ème génération,EDS/EIS,BSS/PLACE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uivi des approvisionnements et de l’utilisation des ARV par les malade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- Elaboration d’un plan de S&amp;E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-  Activités social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ontenu/Déroulement(6/1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 u="sng">
                <a:solidFill>
                  <a:srgbClr val="ffffff"/>
                </a:solidFill>
                <a:uFillTx/>
                <a:latin typeface="Arial"/>
              </a:rPr>
              <a:t>Deuxième semaine(1/5)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Rappel de la 1ère semain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/E des programmes TB/VIH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rveillance de la résistance aux ARV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/E des programmes de soins à domiciles,soins aux orphelins et enfants vulnérabl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/E des programmes de soins et traitement 3-ILPM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ercices 3-ILPMS et VIH et sid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ontenu/Déroulement(7/1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 u="sng">
                <a:solidFill>
                  <a:srgbClr val="ffffff"/>
                </a:solidFill>
                <a:uFillTx/>
                <a:latin typeface="Arial"/>
              </a:rPr>
              <a:t>Deuxième semaine</a:t>
            </a: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 ( 2/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/E des programmes pour les groupes vulnérabl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S/E des programmes de soins et traitement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GI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DR Visites de terrai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laboration d’un plan de S/E(état d’avancemen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Visites de terrai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ontenu/Déroulement(8/1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 u="sng">
                <a:solidFill>
                  <a:srgbClr val="ffffff"/>
                </a:solidFill>
                <a:uFillTx/>
                <a:latin typeface="Arial"/>
              </a:rPr>
              <a:t>Deuxième semaine( 3/5)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Préparation de la restitution des la visites de terrain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SIS et S/E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S/E des programmes CCC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Méthodes d’évaluation qualitative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ontenu/Déroulement(9/1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 u="sng">
                <a:solidFill>
                  <a:srgbClr val="ffffff"/>
                </a:solidFill>
                <a:uFillTx/>
                <a:latin typeface="Arial"/>
              </a:rPr>
              <a:t>Deuxième semaine( 4/5)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Restitution des groupes des visites de terrain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Elaboration d’un plan de S&amp;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Diner de clôture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Post-test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ontenu/Déroulement(10/1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 u="sng">
                <a:solidFill>
                  <a:srgbClr val="ffffff"/>
                </a:solidFill>
                <a:uFillTx/>
                <a:latin typeface="Arial"/>
              </a:rPr>
              <a:t>Deuxième semaine( 5/5)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Evaluation du séminaire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Evaluation du séminaire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Finalisation des présentations sur le plan de S/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Présentation des plans de S&amp;E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Cérémonie de clôtu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Horai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8 h 30 – 17 h 30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2 pauses – café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12 h 30 – 14 h 00 -Déjeuner au restaurant du CESAG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18 h 00 – 19 h 30: Epi info et Elaboration des plans de S&amp;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Méthodes d’enseign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◊ 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Participative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Exposé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Études de ca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Travaux de groupe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Présentation en plénière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Discussion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Echanges d’expéri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Facilitateu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CESAG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MEASURE/JSI : Côte d’ivoire et US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MINISTERE DE LA SANTE ET DE LA PREVENTION MEDICALE DU SENEGAL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UN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Bookman Old Style"/>
              </a:rPr>
              <a:t>But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Renforcer les capacités des professionnels dans la conception, l’élaboration et la mise en œuvre de systèmes de Suivi/ Evaluation des programmes VIH/sida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Objectifs du séminaire(1/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1- définir le rôle du suivi et de l’évaluation dans la mise en œuvre des programmes VIH/sid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2- identifier et appliquer les outils et méthodes appropriés pour la collecte des données lors du suivi et de l’évaluation;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Objectifs du séminaire(2/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3-comprendre et bâtir les cadres de conceptualisation des facteurs ayant une influence sur la réussite des programmes,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4 -comprendre et maîtriser la sélection d’indicateurs approprié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Objectifs du séminaire(3/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5- comprendre les systèmes d’information et les sources de donnée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6- disséminer et utiliser stratégiquement l’information du suivi et de l’évaluation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7- développer et/ou renforcer un plan de suivi et évaluation de program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ontenu/Déroulement(1/1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Durée : Deux sema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ffffff"/>
                </a:solidFill>
                <a:uFillTx/>
                <a:latin typeface="Arial"/>
              </a:rPr>
              <a:t>Première semaine(1/5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uvertur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résentations et attentes des participant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rm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ré-tes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bjectifs et programme du séminair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ontenu/Déroulement(2/1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ffffff"/>
                </a:solidFill>
                <a:uFillTx/>
                <a:latin typeface="Arial"/>
              </a:rPr>
              <a:t>Première semaine(2/5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ituation du VIH dans le monde et en Afriqu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troduction aux théories du Suivi et Evalua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-  Renforcement des systèmes de S &amp; E/ les 12 composant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troduction au plan de S &amp;E / TDR des travaux de group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ontenu/Déroulement(3/1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ffffff"/>
                </a:solidFill>
                <a:uFillTx/>
                <a:latin typeface="Arial"/>
              </a:rPr>
              <a:t>Première semaine(3/5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cadres de S&amp;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Revue sur les cadres :présentation des travaux de groupes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Généralités sur les indicateurs de S&amp;E, travaux de groupes, Restitution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Rôle de l’information stratégique dans la prise de décision/Utilisation des donné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ontenu/Déroulement(4/1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Première semain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( 4/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iangulation des données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 Sources de données pour le S&amp;E des programmes nationaux de VI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Qualité des donné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ssurance qualité des donné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0c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nre et VIH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4:44:47Z</dcterms:created>
  <dc:creator>Renee</dc:creator>
  <dc:description/>
  <dc:language>en-US</dc:language>
  <cp:lastModifiedBy>Casu'al</cp:lastModifiedBy>
  <dcterms:modified xsi:type="dcterms:W3CDTF">2011-02-05T01:32:52Z</dcterms:modified>
  <cp:revision>79</cp:revision>
  <dc:subject/>
  <dc:title>Les résultats d’un auto-analyse de capacité</dc:title>
</cp:coreProperties>
</file>